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AFCA-C20C-4FD2-8AF0-C48C89E25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2BE1-2F9D-444B-B221-07F247F5E3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892080" y="4406760"/>
            <a:ext cx="50500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12EB-CBDB-45D6-A5B7-326336D0A9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4223-C93F-40E5-BE37-A108D96615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892080" y="4406760"/>
            <a:ext cx="50500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3F34-273A-4A7C-988E-469E3BE1B5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EE41-B13E-41B3-A792-AB71A08C13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53D8-7583-476A-A370-B3ABB4CA85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780D-E8BF-4366-9BB0-CDF0B89030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3982-F073-4C75-BE95-489C3EE397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81DA-FAD3-4892-B477-F7710D90F5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C634-9556-49B7-8BCC-E110978618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92C8-B8C0-4178-8B0F-A1F422B610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2080" y="4406760"/>
            <a:ext cx="50500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AA83-E399-41E7-921E-D13A67C185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ABB7-80A1-4901-A220-76C77C3D62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74F1-7C20-4D44-BEE9-B8D8DF2079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92080" y="4406760"/>
            <a:ext cx="50500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7C23-1AB1-41BE-8E08-E27DAA3723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394" name="Text Box 2"/>
          <p:cNvSpPr/>
          <p:nvPr/>
        </p:nvSpPr>
        <p:spPr>
          <a:xfrm>
            <a:off x="914400" y="4419720"/>
            <a:ext cx="5181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E73D-4DC3-4D42-8EAA-69E128F20F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9D1F-B384-4778-84A0-6660E4E517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892080" y="4406760"/>
            <a:ext cx="50500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11D0-724C-44EF-A48A-160FA36F80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892080" y="4406760"/>
            <a:ext cx="50500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E96C-13BD-42E6-B00B-EB452CA2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D746-7C95-4DB9-B8B9-255C677C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3664-151E-4DE7-969A-E72F9B59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27A4-DA1B-4E35-9AC5-C536E340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A0818-9FAE-4BD2-849D-1DB58C1284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2FF95-0F8A-42DE-A75C-93A5B775B6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2126C-3790-46D8-91BF-98BB5D4818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08726-600C-4508-BADB-12FD9AF71A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3E799-FA08-4922-B338-5B907CB1E9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4C773-B513-4AA3-B308-ED441DC380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56E05-F794-4D8B-866B-79C0DFE8CE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A7A7-6798-440D-89DE-2EE39C2A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B9A3F-D7F0-4C78-9BD6-10BEFB5C2C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70055-5D50-4786-A230-E6FB521252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E25B4-A564-49DB-BF55-ACB1D5E578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904C9-A245-4740-B21E-E7F5E9B5B8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EDF4C-3785-4769-9DB5-DBF2E910F4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8724-FD40-4684-88C1-F78D6251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1A1-8578-4C8F-84C2-339234E3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40B-2867-4396-8943-900C6FB5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16E2-63C9-442D-AE3A-1675277C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4439-DD54-4267-9879-F2E12DEE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65F2-3B00-46A3-A702-0BABF627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710-2D0C-46BF-BAC6-F6CA5F31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CD3A-4DB0-4693-AEC4-D369596A7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228C-4A4F-4F3C-9E45-D06E3AE04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3.png"/><Relationship Id="rId16" Type="http://schemas.openxmlformats.org/officeDocument/2006/relationships/image" Target="../media/image33.png"/><Relationship Id="rId17" Type="http://schemas.openxmlformats.org/officeDocument/2006/relationships/image" Target="../media/image30.png"/><Relationship Id="rId18" Type="http://schemas.openxmlformats.org/officeDocument/2006/relationships/image" Target="../media/image30.png"/><Relationship Id="rId19" Type="http://schemas.openxmlformats.org/officeDocument/2006/relationships/image" Target="../media/image30.png"/><Relationship Id="rId20" Type="http://schemas.openxmlformats.org/officeDocument/2006/relationships/image" Target="../media/image30.png"/><Relationship Id="rId21" Type="http://schemas.openxmlformats.org/officeDocument/2006/relationships/image" Target="../media/image30.png"/><Relationship Id="rId22" Type="http://schemas.openxmlformats.org/officeDocument/2006/relationships/image" Target="../media/image30.png"/><Relationship Id="rId23" Type="http://schemas.openxmlformats.org/officeDocument/2006/relationships/image" Target="../media/image30.png"/><Relationship Id="rId24" Type="http://schemas.openxmlformats.org/officeDocument/2006/relationships/image" Target="../media/image30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1.png"/><Relationship Id="rId28" Type="http://schemas.openxmlformats.org/officeDocument/2006/relationships/image" Target="../media/image31.png"/><Relationship Id="rId29" Type="http://schemas.openxmlformats.org/officeDocument/2006/relationships/image" Target="../media/image31.png"/><Relationship Id="rId30" Type="http://schemas.openxmlformats.org/officeDocument/2006/relationships/image" Target="../media/image31.png"/><Relationship Id="rId31" Type="http://schemas.openxmlformats.org/officeDocument/2006/relationships/image" Target="../media/image31.png"/><Relationship Id="rId32" Type="http://schemas.openxmlformats.org/officeDocument/2006/relationships/image" Target="../media/image31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1.png"/><Relationship Id="rId6" Type="http://schemas.openxmlformats.org/officeDocument/2006/relationships/image" Target="../media/image30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1.png"/><Relationship Id="rId6" Type="http://schemas.openxmlformats.org/officeDocument/2006/relationships/image" Target="../media/image30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40.png"/><Relationship Id="rId10" Type="http://schemas.openxmlformats.org/officeDocument/2006/relationships/image" Target="../media/image40.png"/><Relationship Id="rId11" Type="http://schemas.openxmlformats.org/officeDocument/2006/relationships/image" Target="../media/image40.png"/><Relationship Id="rId12" Type="http://schemas.openxmlformats.org/officeDocument/2006/relationships/image" Target="../media/image40.png"/><Relationship Id="rId13" Type="http://schemas.openxmlformats.org/officeDocument/2006/relationships/image" Target="../media/image40.png"/><Relationship Id="rId14" Type="http://schemas.openxmlformats.org/officeDocument/2006/relationships/image" Target="../media/image40.png"/><Relationship Id="rId15" Type="http://schemas.openxmlformats.org/officeDocument/2006/relationships/image" Target="../media/image41.png"/><Relationship Id="rId16" Type="http://schemas.openxmlformats.org/officeDocument/2006/relationships/image" Target="../media/image42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5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1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16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4000" cy="37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70c0"/>
                </a:solidFill>
                <a:latin typeface="Calibri Light"/>
              </a:rPr>
              <a:t>Відносини власності у багатоквартирному будинку</a:t>
            </a:r>
            <a:br>
              <a:rPr sz="5400"/>
            </a:br>
            <a:br>
              <a:rPr sz="5400"/>
            </a:br>
            <a:r>
              <a:rPr b="1" lang="uk-UA" sz="5400" spc="-1" strike="noStrike">
                <a:solidFill>
                  <a:srgbClr val="0070c0"/>
                </a:solidFill>
                <a:latin typeface="Calibri Light"/>
              </a:rPr>
              <a:t>Форми управління багатоквартирним будинко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1811160" y="2987640"/>
            <a:ext cx="8568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70c0"/>
                </a:solidFill>
                <a:latin typeface="Arial"/>
                <a:ea typeface="DejaVu Sans"/>
              </a:rPr>
              <a:t>ПРИЙНЯТТЯ РІШЕН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9758520" y="6429240"/>
            <a:ext cx="1110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6DB6124C-805F-4EBC-9AB6-6461095B3996}" type="slidenum">
              <a:rPr b="0" lang="uk-UA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225440" y="2031840"/>
          <a:ext cx="10236240" cy="3699000"/>
        </p:xfrm>
        <a:graphic>
          <a:graphicData uri="http://schemas.openxmlformats.org/drawingml/2006/table">
            <a:tbl>
              <a:tblPr/>
              <a:tblGrid>
                <a:gridCol w="5554800"/>
                <a:gridCol w="4681440"/>
              </a:tblGrid>
              <a:tr h="49212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 особливості...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 ОСББ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6880">
                <a:tc>
                  <a:txBody>
                    <a:bodyPr lIns="90000" rIns="90000" tIns="6516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icrosoft YaHei"/>
                        </a:rPr>
                        <a:t>Неорганізовані влас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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порційно площі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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сі питання: &gt;3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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рання управителя: &gt;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icrosoft YaHei"/>
                        </a:rPr>
                        <a:t>Установчі зб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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порційно площі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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сі питання: &gt;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icrosoft YaHei"/>
                        </a:rPr>
                        <a:t>Загальні зб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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порційно площі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/ як завгод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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сі питання: &gt;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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еякі питання: &gt;=2/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Text Box 20"/>
          <p:cNvSpPr/>
          <p:nvPr/>
        </p:nvSpPr>
        <p:spPr>
          <a:xfrm>
            <a:off x="2017800" y="5910120"/>
            <a:ext cx="84344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DejaVu Sans"/>
              </a:rPr>
              <a:t>* Крім випадків, коли одному власнику належить понад 50% пло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4200" y="523440"/>
            <a:ext cx="1005048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Calibri Light"/>
              </a:rPr>
              <a:t>           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  <a:ea typeface="DejaVu Sans"/>
              </a:rPr>
              <a:t>Різні закони – різні правила голосуванн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832040" y="1825560"/>
          <a:ext cx="8334360" cy="4408560"/>
        </p:xfrm>
        <a:graphic>
          <a:graphicData uri="http://schemas.openxmlformats.org/drawingml/2006/table">
            <a:tbl>
              <a:tblPr/>
              <a:tblGrid>
                <a:gridCol w="1315800"/>
                <a:gridCol w="2460960"/>
                <a:gridCol w="2279520"/>
                <a:gridCol w="2278080"/>
              </a:tblGrid>
              <a:tr h="703440"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пис у зако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атверджена фор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rowSpan="2"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еорга-нізовані влас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токол збор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6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Листок опит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617760">
                <a:tc rowSpan="2"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становчі зб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токол збор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6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Листок опит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617760">
                <a:tc rowSpan="2"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агальні зб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токол збор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6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Листок опит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grpSp>
        <p:nvGrpSpPr>
          <p:cNvPr id="223" name="Группа 11"/>
          <p:cNvGrpSpPr/>
          <p:nvPr/>
        </p:nvGrpSpPr>
        <p:grpSpPr>
          <a:xfrm>
            <a:off x="6095880" y="2268360"/>
            <a:ext cx="1116000" cy="4162680"/>
            <a:chOff x="6095880" y="2268360"/>
            <a:chExt cx="1116000" cy="4162680"/>
          </a:xfrm>
        </p:grpSpPr>
        <p:grpSp>
          <p:nvGrpSpPr>
            <p:cNvPr id="224" name="Группа 4"/>
            <p:cNvGrpSpPr/>
            <p:nvPr/>
          </p:nvGrpSpPr>
          <p:grpSpPr>
            <a:xfrm>
              <a:off x="6095880" y="2268360"/>
              <a:ext cx="1116000" cy="4162680"/>
              <a:chOff x="6095880" y="2268360"/>
              <a:chExt cx="1116000" cy="4162680"/>
            </a:xfrm>
          </p:grpSpPr>
          <p:pic>
            <p:nvPicPr>
              <p:cNvPr id="225" name="Picture 90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5760" y="2268360"/>
                <a:ext cx="1086120" cy="10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Picture 92" descr=""/>
              <p:cNvPicPr/>
              <p:nvPr/>
            </p:nvPicPr>
            <p:blipFill>
              <a:blip r:embed="rId2"/>
              <a:stretch/>
            </p:blipFill>
            <p:spPr>
              <a:xfrm>
                <a:off x="6109920" y="2903400"/>
                <a:ext cx="1086120" cy="10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Picture 93" descr=""/>
              <p:cNvPicPr/>
              <p:nvPr/>
            </p:nvPicPr>
            <p:blipFill>
              <a:blip r:embed="rId3"/>
              <a:stretch/>
            </p:blipFill>
            <p:spPr>
              <a:xfrm>
                <a:off x="6109920" y="4127400"/>
                <a:ext cx="1086120" cy="10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95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2520" y="3500280"/>
                <a:ext cx="1086120" cy="10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101" descr=""/>
              <p:cNvPicPr/>
              <p:nvPr/>
            </p:nvPicPr>
            <p:blipFill>
              <a:blip r:embed="rId5"/>
              <a:stretch/>
            </p:blipFill>
            <p:spPr>
              <a:xfrm>
                <a:off x="6095880" y="5345280"/>
                <a:ext cx="1086120" cy="1085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0" name="Picture 100" descr=""/>
            <p:cNvPicPr/>
            <p:nvPr/>
          </p:nvPicPr>
          <p:blipFill>
            <a:blip r:embed="rId6"/>
            <a:stretch/>
          </p:blipFill>
          <p:spPr>
            <a:xfrm>
              <a:off x="6109920" y="4732200"/>
              <a:ext cx="1086120" cy="108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Группа 20"/>
          <p:cNvGrpSpPr/>
          <p:nvPr/>
        </p:nvGrpSpPr>
        <p:grpSpPr>
          <a:xfrm>
            <a:off x="8472600" y="2268360"/>
            <a:ext cx="1090440" cy="4145040"/>
            <a:chOff x="8472600" y="2268360"/>
            <a:chExt cx="1090440" cy="4145040"/>
          </a:xfrm>
        </p:grpSpPr>
        <p:grpSp>
          <p:nvGrpSpPr>
            <p:cNvPr id="232" name="Группа 13"/>
            <p:cNvGrpSpPr/>
            <p:nvPr/>
          </p:nvGrpSpPr>
          <p:grpSpPr>
            <a:xfrm>
              <a:off x="8472600" y="2268360"/>
              <a:ext cx="1090440" cy="4145040"/>
              <a:chOff x="8472600" y="2268360"/>
              <a:chExt cx="1090440" cy="4145040"/>
            </a:xfrm>
          </p:grpSpPr>
          <p:pic>
            <p:nvPicPr>
              <p:cNvPr id="233" name="Picture 91" descr=""/>
              <p:cNvPicPr/>
              <p:nvPr/>
            </p:nvPicPr>
            <p:blipFill>
              <a:blip r:embed="rId7"/>
              <a:stretch/>
            </p:blipFill>
            <p:spPr>
              <a:xfrm>
                <a:off x="8472600" y="2879280"/>
                <a:ext cx="1085760" cy="10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Picture 94" descr=""/>
              <p:cNvPicPr/>
              <p:nvPr/>
            </p:nvPicPr>
            <p:blipFill>
              <a:blip r:embed="rId8"/>
              <a:stretch/>
            </p:blipFill>
            <p:spPr>
              <a:xfrm>
                <a:off x="8477280" y="2268360"/>
                <a:ext cx="1085760" cy="10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Picture 96" descr=""/>
              <p:cNvPicPr/>
              <p:nvPr/>
            </p:nvPicPr>
            <p:blipFill>
              <a:blip r:embed="rId9"/>
              <a:stretch/>
            </p:blipFill>
            <p:spPr>
              <a:xfrm>
                <a:off x="8472600" y="3479400"/>
                <a:ext cx="1085760" cy="10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Picture 9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472600" y="4716360"/>
                <a:ext cx="1085760" cy="10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99" descr=""/>
              <p:cNvPicPr/>
              <p:nvPr/>
            </p:nvPicPr>
            <p:blipFill>
              <a:blip r:embed="rId11"/>
              <a:stretch/>
            </p:blipFill>
            <p:spPr>
              <a:xfrm>
                <a:off x="8472600" y="5327640"/>
                <a:ext cx="1085760" cy="1085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8" name="Picture 98" descr=""/>
            <p:cNvPicPr/>
            <p:nvPr/>
          </p:nvPicPr>
          <p:blipFill>
            <a:blip r:embed="rId12"/>
            <a:stretch/>
          </p:blipFill>
          <p:spPr>
            <a:xfrm>
              <a:off x="8472600" y="4112640"/>
              <a:ext cx="1085760" cy="108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4200" y="523440"/>
            <a:ext cx="1005048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Calibri Light"/>
              </a:rPr>
              <a:t>           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  <a:ea typeface="DejaVu Sans"/>
              </a:rPr>
              <a:t>Оформлення прийнятих рішень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1811160" y="2987640"/>
            <a:ext cx="8568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70c0"/>
                </a:solidFill>
                <a:latin typeface="Arial"/>
                <a:ea typeface="DejaVu Sans"/>
              </a:rPr>
              <a:t>НОВЕ для ОСББ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55800" y="523440"/>
            <a:ext cx="82202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Calibri Light"/>
              </a:rPr>
              <a:t>           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  <a:ea typeface="DejaVu Sans"/>
              </a:rPr>
              <a:t>ЧЛЕНИ          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DejaVu Sans"/>
              </a:rPr>
              <a:t>/ 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  <a:ea typeface="DejaVu Sans"/>
              </a:rPr>
              <a:t>     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DejaVu Sans"/>
              </a:rPr>
              <a:t>СПІВВЛАСНИК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9758520" y="6429240"/>
            <a:ext cx="1110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ABDFB5D7-5337-40B3-92A5-4D7C8DC9FE3C}" type="slidenum">
              <a:rPr b="0" lang="uk-UA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2674800" y="3490920"/>
            <a:ext cx="1548000" cy="223344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2674800" y="3490920"/>
            <a:ext cx="1548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DejaVu Sans"/>
              </a:rPr>
              <a:t>СТАТ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2862360" y="414036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3511440" y="414036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"/>
          <p:cNvPicPr/>
          <p:nvPr/>
        </p:nvPicPr>
        <p:blipFill>
          <a:blip r:embed="rId3"/>
          <a:stretch/>
        </p:blipFill>
        <p:spPr>
          <a:xfrm>
            <a:off x="2862360" y="478800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"/>
          <p:cNvPicPr/>
          <p:nvPr/>
        </p:nvPicPr>
        <p:blipFill>
          <a:blip r:embed="rId4"/>
          <a:stretch/>
        </p:blipFill>
        <p:spPr>
          <a:xfrm>
            <a:off x="3511440" y="478800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4483080" y="414036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"/>
          <p:cNvPicPr/>
          <p:nvPr/>
        </p:nvPicPr>
        <p:blipFill>
          <a:blip r:embed="rId6">
            <a:lum bright="30000"/>
          </a:blip>
          <a:stretch/>
        </p:blipFill>
        <p:spPr>
          <a:xfrm>
            <a:off x="4483080" y="478800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"/>
          <p:cNvPicPr/>
          <p:nvPr/>
        </p:nvPicPr>
        <p:blipFill>
          <a:blip r:embed="rId7"/>
          <a:stretch/>
        </p:blipFill>
        <p:spPr>
          <a:xfrm>
            <a:off x="1855800" y="2087640"/>
            <a:ext cx="3981600" cy="441324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12"/>
          <p:cNvSpPr/>
          <p:nvPr/>
        </p:nvSpPr>
        <p:spPr>
          <a:xfrm>
            <a:off x="2676600" y="2016000"/>
            <a:ext cx="2303280" cy="648000"/>
          </a:xfrm>
          <a:prstGeom prst="horizontalScroll">
            <a:avLst>
              <a:gd name="adj" fmla="val 12500"/>
            </a:avLst>
          </a:prstGeom>
          <a:solidFill>
            <a:srgbClr val="e6e6f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80"/>
                </a:solidFill>
                <a:latin typeface="Arial"/>
                <a:ea typeface="DejaVu Sans"/>
              </a:rPr>
              <a:t>До 01.07.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AutoShape 13"/>
          <p:cNvSpPr/>
          <p:nvPr/>
        </p:nvSpPr>
        <p:spPr>
          <a:xfrm>
            <a:off x="7283520" y="3490920"/>
            <a:ext cx="2376360" cy="223344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7283520" y="3490920"/>
            <a:ext cx="237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DejaVu Sans"/>
              </a:rPr>
              <a:t>СТАТ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15" descr=""/>
          <p:cNvPicPr/>
          <p:nvPr/>
        </p:nvPicPr>
        <p:blipFill>
          <a:blip r:embed="rId8"/>
          <a:stretch/>
        </p:blipFill>
        <p:spPr>
          <a:xfrm>
            <a:off x="7470720" y="414036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6" descr=""/>
          <p:cNvPicPr/>
          <p:nvPr/>
        </p:nvPicPr>
        <p:blipFill>
          <a:blip r:embed="rId9"/>
          <a:stretch/>
        </p:blipFill>
        <p:spPr>
          <a:xfrm>
            <a:off x="8118360" y="414036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7" descr=""/>
          <p:cNvPicPr/>
          <p:nvPr/>
        </p:nvPicPr>
        <p:blipFill>
          <a:blip r:embed="rId10"/>
          <a:stretch/>
        </p:blipFill>
        <p:spPr>
          <a:xfrm>
            <a:off x="7470720" y="478800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8" descr=""/>
          <p:cNvPicPr/>
          <p:nvPr/>
        </p:nvPicPr>
        <p:blipFill>
          <a:blip r:embed="rId11"/>
          <a:stretch/>
        </p:blipFill>
        <p:spPr>
          <a:xfrm>
            <a:off x="8118360" y="478800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9" descr=""/>
          <p:cNvPicPr/>
          <p:nvPr/>
        </p:nvPicPr>
        <p:blipFill>
          <a:blip r:embed="rId12"/>
          <a:stretch/>
        </p:blipFill>
        <p:spPr>
          <a:xfrm>
            <a:off x="8731080" y="414036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0" descr=""/>
          <p:cNvPicPr/>
          <p:nvPr/>
        </p:nvPicPr>
        <p:blipFill>
          <a:blip r:embed="rId13"/>
          <a:stretch/>
        </p:blipFill>
        <p:spPr>
          <a:xfrm>
            <a:off x="8731080" y="478800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1" descr=""/>
          <p:cNvPicPr/>
          <p:nvPr/>
        </p:nvPicPr>
        <p:blipFill>
          <a:blip r:embed="rId14"/>
          <a:stretch/>
        </p:blipFill>
        <p:spPr>
          <a:xfrm>
            <a:off x="6462720" y="2087640"/>
            <a:ext cx="3981600" cy="441324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22"/>
          <p:cNvSpPr/>
          <p:nvPr/>
        </p:nvSpPr>
        <p:spPr>
          <a:xfrm>
            <a:off x="7283520" y="2016000"/>
            <a:ext cx="2303280" cy="648000"/>
          </a:xfrm>
          <a:prstGeom prst="horizontalScroll">
            <a:avLst>
              <a:gd name="adj" fmla="val 12500"/>
            </a:avLst>
          </a:prstGeom>
          <a:solidFill>
            <a:srgbClr val="e6e6f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80"/>
                </a:solidFill>
                <a:latin typeface="Arial"/>
                <a:ea typeface="DejaVu Sans"/>
              </a:rPr>
              <a:t>Після 01.07.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23"/>
          <p:cNvSpPr/>
          <p:nvPr/>
        </p:nvSpPr>
        <p:spPr>
          <a:xfrm>
            <a:off x="2674800" y="5724360"/>
            <a:ext cx="144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DejaVu Sans"/>
              </a:rPr>
              <a:t>Члени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24"/>
          <p:cNvSpPr/>
          <p:nvPr/>
        </p:nvSpPr>
        <p:spPr>
          <a:xfrm>
            <a:off x="4043520" y="5724360"/>
            <a:ext cx="1439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DejaVu Sans"/>
              </a:rPr>
              <a:t>Нечлени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7284960" y="5724360"/>
            <a:ext cx="2374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DejaVu Sans"/>
              </a:rPr>
              <a:t>Співвлас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9758520" y="6429240"/>
            <a:ext cx="1110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41F5A545-CB31-462E-A3F4-A7AD2870DA1E}" type="slidenum">
              <a:rPr b="0" lang="uk-UA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2292480" y="1198440"/>
            <a:ext cx="2303280" cy="648000"/>
          </a:xfrm>
          <a:prstGeom prst="horizontalScroll">
            <a:avLst>
              <a:gd name="adj" fmla="val 12500"/>
            </a:avLst>
          </a:prstGeom>
          <a:solidFill>
            <a:srgbClr val="e6e6f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80"/>
                </a:solidFill>
                <a:latin typeface="Arial"/>
                <a:ea typeface="DejaVu Sans"/>
              </a:rPr>
              <a:t>До 01.07.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7464600" y="1249200"/>
            <a:ext cx="2303280" cy="648000"/>
          </a:xfrm>
          <a:prstGeom prst="horizontalScroll">
            <a:avLst>
              <a:gd name="adj" fmla="val 12500"/>
            </a:avLst>
          </a:prstGeom>
          <a:solidFill>
            <a:srgbClr val="e6e6f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80"/>
                </a:solidFill>
                <a:latin typeface="Arial"/>
                <a:ea typeface="DejaVu Sans"/>
              </a:rPr>
              <a:t>Після 01.07.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1668600" y="244800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2"/>
          <a:stretch/>
        </p:blipFill>
        <p:spPr>
          <a:xfrm>
            <a:off x="2543040" y="3348000"/>
            <a:ext cx="1070280" cy="1079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"/>
          <p:cNvPicPr/>
          <p:nvPr/>
        </p:nvPicPr>
        <p:blipFill>
          <a:blip r:embed="rId3"/>
          <a:stretch/>
        </p:blipFill>
        <p:spPr>
          <a:xfrm>
            <a:off x="1679400" y="4896000"/>
            <a:ext cx="1070280" cy="1079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"/>
          <p:cNvPicPr/>
          <p:nvPr/>
        </p:nvPicPr>
        <p:blipFill>
          <a:blip r:embed="rId4"/>
          <a:stretch/>
        </p:blipFill>
        <p:spPr>
          <a:xfrm>
            <a:off x="2532240" y="244800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"/>
          <p:cNvPicPr/>
          <p:nvPr/>
        </p:nvPicPr>
        <p:blipFill>
          <a:blip r:embed="rId5"/>
          <a:stretch/>
        </p:blipFill>
        <p:spPr>
          <a:xfrm>
            <a:off x="3395520" y="2448000"/>
            <a:ext cx="1070280" cy="1079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"/>
          <p:cNvPicPr/>
          <p:nvPr/>
        </p:nvPicPr>
        <p:blipFill>
          <a:blip r:embed="rId6"/>
          <a:stretch/>
        </p:blipFill>
        <p:spPr>
          <a:xfrm>
            <a:off x="4259160" y="244800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1" descr=""/>
          <p:cNvPicPr/>
          <p:nvPr/>
        </p:nvPicPr>
        <p:blipFill>
          <a:blip r:embed="rId7"/>
          <a:stretch/>
        </p:blipFill>
        <p:spPr>
          <a:xfrm>
            <a:off x="1668600" y="334800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2" descr=""/>
          <p:cNvPicPr/>
          <p:nvPr/>
        </p:nvPicPr>
        <p:blipFill>
          <a:blip r:embed="rId8"/>
          <a:stretch/>
        </p:blipFill>
        <p:spPr>
          <a:xfrm>
            <a:off x="3406680" y="334800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"/>
          <p:cNvPicPr/>
          <p:nvPr/>
        </p:nvPicPr>
        <p:blipFill>
          <a:blip r:embed="rId9"/>
          <a:stretch/>
        </p:blipFill>
        <p:spPr>
          <a:xfrm>
            <a:off x="2543040" y="4896000"/>
            <a:ext cx="1070280" cy="1079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4" descr=""/>
          <p:cNvPicPr/>
          <p:nvPr/>
        </p:nvPicPr>
        <p:blipFill>
          <a:blip r:embed="rId10"/>
          <a:stretch/>
        </p:blipFill>
        <p:spPr>
          <a:xfrm>
            <a:off x="3406680" y="489600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"/>
          <p:cNvPicPr/>
          <p:nvPr/>
        </p:nvPicPr>
        <p:blipFill>
          <a:blip r:embed="rId11"/>
          <a:stretch/>
        </p:blipFill>
        <p:spPr>
          <a:xfrm>
            <a:off x="4307040" y="489600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"/>
          <p:cNvPicPr/>
          <p:nvPr/>
        </p:nvPicPr>
        <p:blipFill>
          <a:blip r:embed="rId12"/>
          <a:stretch/>
        </p:blipFill>
        <p:spPr>
          <a:xfrm>
            <a:off x="4307040" y="403236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7" descr=""/>
          <p:cNvPicPr/>
          <p:nvPr/>
        </p:nvPicPr>
        <p:blipFill>
          <a:blip r:embed="rId13"/>
          <a:stretch/>
        </p:blipFill>
        <p:spPr>
          <a:xfrm>
            <a:off x="1679400" y="5759280"/>
            <a:ext cx="1070280" cy="1079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8" descr=""/>
          <p:cNvPicPr/>
          <p:nvPr/>
        </p:nvPicPr>
        <p:blipFill>
          <a:blip r:embed="rId14"/>
          <a:stretch/>
        </p:blipFill>
        <p:spPr>
          <a:xfrm>
            <a:off x="2543040" y="5759280"/>
            <a:ext cx="1070280" cy="1079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9" descr=""/>
          <p:cNvPicPr/>
          <p:nvPr/>
        </p:nvPicPr>
        <p:blipFill>
          <a:blip r:embed="rId15"/>
          <a:stretch/>
        </p:blipFill>
        <p:spPr>
          <a:xfrm>
            <a:off x="3443400" y="575928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0" descr=""/>
          <p:cNvPicPr/>
          <p:nvPr/>
        </p:nvPicPr>
        <p:blipFill>
          <a:blip r:embed="rId16"/>
          <a:stretch/>
        </p:blipFill>
        <p:spPr>
          <a:xfrm>
            <a:off x="4307040" y="5759280"/>
            <a:ext cx="1069920" cy="107964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21"/>
          <p:cNvSpPr/>
          <p:nvPr/>
        </p:nvSpPr>
        <p:spPr>
          <a:xfrm>
            <a:off x="5257800" y="2627280"/>
            <a:ext cx="371520" cy="1440000"/>
          </a:xfrm>
          <a:custGeom>
            <a:avLst/>
            <a:gdLst>
              <a:gd name="textAreaLeft" fmla="*/ 0 w 371520"/>
              <a:gd name="textAreaRight" fmla="*/ 134280 w 3715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AutoShape 22"/>
          <p:cNvSpPr/>
          <p:nvPr/>
        </p:nvSpPr>
        <p:spPr>
          <a:xfrm>
            <a:off x="5257800" y="4284720"/>
            <a:ext cx="371520" cy="1439640"/>
          </a:xfrm>
          <a:custGeom>
            <a:avLst/>
            <a:gdLst>
              <a:gd name="textAreaLeft" fmla="*/ 0 w 371520"/>
              <a:gd name="textAreaRight" fmla="*/ 134280 w 37152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AutoShape 23"/>
          <p:cNvSpPr/>
          <p:nvPr/>
        </p:nvSpPr>
        <p:spPr>
          <a:xfrm>
            <a:off x="5257800" y="5904000"/>
            <a:ext cx="371520" cy="720720"/>
          </a:xfrm>
          <a:custGeom>
            <a:avLst/>
            <a:gdLst>
              <a:gd name="textAreaLeft" fmla="*/ 0 w 371520"/>
              <a:gd name="textAreaRight" fmla="*/ 134280 w 3715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5592600" y="3132000"/>
            <a:ext cx="10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DejaVu Sans"/>
              </a:rPr>
              <a:t>Квору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5592600" y="4680000"/>
            <a:ext cx="1187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DejaVu Sans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DejaVu Sans"/>
              </a:rPr>
              <a:t>прийш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26"/>
          <p:cNvSpPr/>
          <p:nvPr/>
        </p:nvSpPr>
        <p:spPr>
          <a:xfrm>
            <a:off x="5592600" y="6083280"/>
            <a:ext cx="1260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DejaVu Sans"/>
              </a:rPr>
              <a:t>Не чл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27" descr=""/>
          <p:cNvPicPr/>
          <p:nvPr/>
        </p:nvPicPr>
        <p:blipFill>
          <a:blip r:embed="rId17"/>
          <a:stretch/>
        </p:blipFill>
        <p:spPr>
          <a:xfrm>
            <a:off x="6888240" y="244800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8" descr=""/>
          <p:cNvPicPr/>
          <p:nvPr/>
        </p:nvPicPr>
        <p:blipFill>
          <a:blip r:embed="rId18"/>
          <a:stretch/>
        </p:blipFill>
        <p:spPr>
          <a:xfrm>
            <a:off x="7751880" y="244800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9" descr=""/>
          <p:cNvPicPr/>
          <p:nvPr/>
        </p:nvPicPr>
        <p:blipFill>
          <a:blip r:embed="rId19"/>
          <a:stretch/>
        </p:blipFill>
        <p:spPr>
          <a:xfrm>
            <a:off x="8615520" y="244800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0" descr=""/>
          <p:cNvPicPr/>
          <p:nvPr/>
        </p:nvPicPr>
        <p:blipFill>
          <a:blip r:embed="rId20"/>
          <a:stretch/>
        </p:blipFill>
        <p:spPr>
          <a:xfrm>
            <a:off x="9480600" y="244800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1" descr=""/>
          <p:cNvPicPr/>
          <p:nvPr/>
        </p:nvPicPr>
        <p:blipFill>
          <a:blip r:embed="rId21"/>
          <a:stretch/>
        </p:blipFill>
        <p:spPr>
          <a:xfrm>
            <a:off x="6888240" y="331164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2" descr=""/>
          <p:cNvPicPr/>
          <p:nvPr/>
        </p:nvPicPr>
        <p:blipFill>
          <a:blip r:embed="rId22"/>
          <a:stretch/>
        </p:blipFill>
        <p:spPr>
          <a:xfrm>
            <a:off x="7751880" y="331164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23"/>
          <a:stretch/>
        </p:blipFill>
        <p:spPr>
          <a:xfrm>
            <a:off x="8615520" y="331164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4" descr=""/>
          <p:cNvPicPr/>
          <p:nvPr/>
        </p:nvPicPr>
        <p:blipFill>
          <a:blip r:embed="rId24"/>
          <a:stretch/>
        </p:blipFill>
        <p:spPr>
          <a:xfrm>
            <a:off x="9480600" y="331164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5" descr=""/>
          <p:cNvPicPr/>
          <p:nvPr/>
        </p:nvPicPr>
        <p:blipFill>
          <a:blip r:embed="rId25"/>
          <a:stretch/>
        </p:blipFill>
        <p:spPr>
          <a:xfrm>
            <a:off x="9480600" y="417672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6" descr=""/>
          <p:cNvPicPr/>
          <p:nvPr/>
        </p:nvPicPr>
        <p:blipFill>
          <a:blip r:embed="rId26"/>
          <a:stretch/>
        </p:blipFill>
        <p:spPr>
          <a:xfrm>
            <a:off x="7751880" y="417672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7" descr=""/>
          <p:cNvPicPr/>
          <p:nvPr/>
        </p:nvPicPr>
        <p:blipFill>
          <a:blip r:embed="rId27"/>
          <a:stretch/>
        </p:blipFill>
        <p:spPr>
          <a:xfrm>
            <a:off x="8615520" y="417672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8" descr=""/>
          <p:cNvPicPr/>
          <p:nvPr/>
        </p:nvPicPr>
        <p:blipFill>
          <a:blip r:embed="rId28"/>
          <a:stretch/>
        </p:blipFill>
        <p:spPr>
          <a:xfrm>
            <a:off x="6888240" y="417672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9" descr=""/>
          <p:cNvPicPr/>
          <p:nvPr/>
        </p:nvPicPr>
        <p:blipFill>
          <a:blip r:embed="rId29"/>
          <a:stretch/>
        </p:blipFill>
        <p:spPr>
          <a:xfrm>
            <a:off x="7751880" y="504036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0" descr=""/>
          <p:cNvPicPr/>
          <p:nvPr/>
        </p:nvPicPr>
        <p:blipFill>
          <a:blip r:embed="rId30"/>
          <a:stretch/>
        </p:blipFill>
        <p:spPr>
          <a:xfrm>
            <a:off x="8615520" y="504036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1" descr=""/>
          <p:cNvPicPr/>
          <p:nvPr/>
        </p:nvPicPr>
        <p:blipFill>
          <a:blip r:embed="rId31"/>
          <a:stretch/>
        </p:blipFill>
        <p:spPr>
          <a:xfrm>
            <a:off x="6888240" y="504036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2" descr=""/>
          <p:cNvPicPr/>
          <p:nvPr/>
        </p:nvPicPr>
        <p:blipFill>
          <a:blip r:embed="rId32"/>
          <a:stretch/>
        </p:blipFill>
        <p:spPr>
          <a:xfrm>
            <a:off x="9480600" y="5040360"/>
            <a:ext cx="1069920" cy="107928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21"/>
          <p:cNvSpPr/>
          <p:nvPr/>
        </p:nvSpPr>
        <p:spPr>
          <a:xfrm>
            <a:off x="10841040" y="2664000"/>
            <a:ext cx="371520" cy="3311280"/>
          </a:xfrm>
          <a:custGeom>
            <a:avLst/>
            <a:gdLst>
              <a:gd name="textAreaLeft" fmla="*/ 0 w 371520"/>
              <a:gd name="textAreaRight" fmla="*/ 134280 w 371520"/>
              <a:gd name="textAreaTop" fmla="*/ 37440 h 3311280"/>
              <a:gd name="textAreaBottom" fmla="*/ 3273840 h 33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2"/>
                  <a:pt x="10800" y="783"/>
                </a:cubicBezTo>
                <a:lnTo>
                  <a:pt x="10800" y="10017"/>
                </a:lnTo>
                <a:cubicBezTo>
                  <a:pt x="10800" y="10409"/>
                  <a:pt x="16200" y="10800"/>
                  <a:pt x="21600" y="10800"/>
                </a:cubicBezTo>
                <a:cubicBezTo>
                  <a:pt x="16200" y="10800"/>
                  <a:pt x="10800" y="11192"/>
                  <a:pt x="10800" y="11583"/>
                </a:cubicBezTo>
                <a:lnTo>
                  <a:pt x="10800" y="20817"/>
                </a:lnTo>
                <a:cubicBezTo>
                  <a:pt x="10800" y="2120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245360" y="196560"/>
            <a:ext cx="291312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Arial"/>
                <a:ea typeface="DejaVu Sans"/>
              </a:rPr>
              <a:t>Кворум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09" name="Text Box 24" descr=""/>
          <p:cNvPicPr/>
          <p:nvPr/>
        </p:nvPicPr>
        <p:blipFill>
          <a:blip r:embed="rId33"/>
          <a:stretch/>
        </p:blipFill>
        <p:spPr>
          <a:xfrm>
            <a:off x="11180880" y="3219480"/>
            <a:ext cx="1017360" cy="2638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7" descr=""/>
          <p:cNvPicPr/>
          <p:nvPr/>
        </p:nvPicPr>
        <p:blipFill>
          <a:blip r:embed="rId34"/>
          <a:stretch/>
        </p:blipFill>
        <p:spPr>
          <a:xfrm>
            <a:off x="8159760" y="66600"/>
            <a:ext cx="1085760" cy="10857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2616120" y="272880"/>
            <a:ext cx="2913120" cy="8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Arial"/>
                <a:ea typeface="DejaVu Sans"/>
              </a:rPr>
              <a:t>Кворум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9758520" y="6429240"/>
            <a:ext cx="1110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097958D9-6CC8-4229-944A-7397B04ECDCD}" type="slidenum">
              <a:rPr b="0" lang="uk-UA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"/>
          <p:cNvSpPr/>
          <p:nvPr/>
        </p:nvSpPr>
        <p:spPr>
          <a:xfrm>
            <a:off x="1884240" y="1836720"/>
            <a:ext cx="2303640" cy="647640"/>
          </a:xfrm>
          <a:prstGeom prst="horizontalScroll">
            <a:avLst>
              <a:gd name="adj" fmla="val 12500"/>
            </a:avLst>
          </a:prstGeom>
          <a:solidFill>
            <a:srgbClr val="e6e6f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80"/>
                </a:solidFill>
                <a:latin typeface="Arial"/>
                <a:ea typeface="DejaVu Sans"/>
              </a:rPr>
              <a:t>До 01.07.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6743880" y="1800360"/>
            <a:ext cx="2303280" cy="647640"/>
          </a:xfrm>
          <a:prstGeom prst="horizontalScroll">
            <a:avLst>
              <a:gd name="adj" fmla="val 12500"/>
            </a:avLst>
          </a:prstGeom>
          <a:solidFill>
            <a:srgbClr val="e6e6f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80"/>
                </a:solidFill>
                <a:latin typeface="Arial"/>
                <a:ea typeface="DejaVu Sans"/>
              </a:rPr>
              <a:t>Після 01.07.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1"/>
          <a:stretch/>
        </p:blipFill>
        <p:spPr>
          <a:xfrm>
            <a:off x="2927520" y="248436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"/>
          <p:cNvPicPr/>
          <p:nvPr/>
        </p:nvPicPr>
        <p:blipFill>
          <a:blip r:embed="rId2"/>
          <a:stretch/>
        </p:blipFill>
        <p:spPr>
          <a:xfrm>
            <a:off x="2063880" y="248436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/>
          <p:cNvPicPr/>
          <p:nvPr/>
        </p:nvPicPr>
        <p:blipFill>
          <a:blip r:embed="rId3"/>
          <a:stretch/>
        </p:blipFill>
        <p:spPr>
          <a:xfrm>
            <a:off x="2063880" y="334800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"/>
          <p:cNvPicPr/>
          <p:nvPr/>
        </p:nvPicPr>
        <p:blipFill>
          <a:blip r:embed="rId4"/>
          <a:stretch/>
        </p:blipFill>
        <p:spPr>
          <a:xfrm>
            <a:off x="2927520" y="334800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"/>
          <p:cNvPicPr/>
          <p:nvPr/>
        </p:nvPicPr>
        <p:blipFill>
          <a:blip r:embed="rId5"/>
          <a:stretch/>
        </p:blipFill>
        <p:spPr>
          <a:xfrm>
            <a:off x="6070680" y="241128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"/>
          <p:cNvPicPr/>
          <p:nvPr/>
        </p:nvPicPr>
        <p:blipFill>
          <a:blip r:embed="rId6"/>
          <a:stretch/>
        </p:blipFill>
        <p:spPr>
          <a:xfrm>
            <a:off x="5207040" y="241128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"/>
          <p:cNvPicPr/>
          <p:nvPr/>
        </p:nvPicPr>
        <p:blipFill>
          <a:blip r:embed="rId7"/>
          <a:stretch/>
        </p:blipFill>
        <p:spPr>
          <a:xfrm>
            <a:off x="5207040" y="327672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"/>
          <p:cNvPicPr/>
          <p:nvPr/>
        </p:nvPicPr>
        <p:blipFill>
          <a:blip r:embed="rId8"/>
          <a:stretch/>
        </p:blipFill>
        <p:spPr>
          <a:xfrm>
            <a:off x="6070680" y="327672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3" descr=""/>
          <p:cNvPicPr/>
          <p:nvPr/>
        </p:nvPicPr>
        <p:blipFill>
          <a:blip r:embed="rId9"/>
          <a:stretch/>
        </p:blipFill>
        <p:spPr>
          <a:xfrm>
            <a:off x="8472600" y="2365200"/>
            <a:ext cx="2052360" cy="1990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4" descr=""/>
          <p:cNvPicPr/>
          <p:nvPr/>
        </p:nvPicPr>
        <p:blipFill>
          <a:blip r:embed="rId10"/>
          <a:stretch/>
        </p:blipFill>
        <p:spPr>
          <a:xfrm>
            <a:off x="6999120" y="4896000"/>
            <a:ext cx="1797120" cy="1800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5" descr=""/>
          <p:cNvPicPr/>
          <p:nvPr/>
        </p:nvPicPr>
        <p:blipFill>
          <a:blip r:embed="rId11"/>
          <a:stretch/>
        </p:blipFill>
        <p:spPr>
          <a:xfrm>
            <a:off x="7572240" y="3672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6" descr=""/>
          <p:cNvPicPr/>
          <p:nvPr/>
        </p:nvPicPr>
        <p:blipFill>
          <a:blip r:embed="rId12"/>
          <a:stretch/>
        </p:blipFill>
        <p:spPr>
          <a:xfrm>
            <a:off x="7251840" y="3311640"/>
            <a:ext cx="1400040" cy="14396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855800" y="523440"/>
            <a:ext cx="777096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Calibri Light"/>
              </a:rPr>
              <a:t>           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  <a:ea typeface="DejaVu Sans"/>
              </a:rPr>
              <a:t>Поділ голосів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9758520" y="6429240"/>
            <a:ext cx="1110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EF3CABDF-C355-4BE6-AB35-5915EA5109D1}" type="slidenum">
              <a:rPr b="0" lang="uk-UA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3"/>
          <p:cNvSpPr/>
          <p:nvPr/>
        </p:nvSpPr>
        <p:spPr>
          <a:xfrm>
            <a:off x="2568600" y="1908000"/>
            <a:ext cx="2303280" cy="648000"/>
          </a:xfrm>
          <a:prstGeom prst="horizontalScroll">
            <a:avLst>
              <a:gd name="adj" fmla="val 12500"/>
            </a:avLst>
          </a:prstGeom>
          <a:solidFill>
            <a:srgbClr val="e6e6f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80"/>
                </a:solidFill>
                <a:latin typeface="Arial"/>
                <a:ea typeface="DejaVu Sans"/>
              </a:rPr>
              <a:t>До 01.07.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6743880" y="1871640"/>
            <a:ext cx="2303280" cy="647640"/>
          </a:xfrm>
          <a:prstGeom prst="horizontalScroll">
            <a:avLst>
              <a:gd name="adj" fmla="val 12500"/>
            </a:avLst>
          </a:prstGeom>
          <a:solidFill>
            <a:srgbClr val="e6e6f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80"/>
                </a:solidFill>
                <a:latin typeface="Arial"/>
                <a:ea typeface="DejaVu Sans"/>
              </a:rPr>
              <a:t>Після 01.07.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043520" y="255600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2"/>
          <a:stretch/>
        </p:blipFill>
        <p:spPr>
          <a:xfrm>
            <a:off x="3179880" y="255600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"/>
          <p:cNvPicPr/>
          <p:nvPr/>
        </p:nvPicPr>
        <p:blipFill>
          <a:blip r:embed="rId3"/>
          <a:stretch/>
        </p:blipFill>
        <p:spPr>
          <a:xfrm>
            <a:off x="3179880" y="341964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"/>
          <p:cNvPicPr/>
          <p:nvPr/>
        </p:nvPicPr>
        <p:blipFill>
          <a:blip r:embed="rId4"/>
          <a:stretch/>
        </p:blipFill>
        <p:spPr>
          <a:xfrm>
            <a:off x="4043520" y="341964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"/>
          <p:cNvPicPr/>
          <p:nvPr/>
        </p:nvPicPr>
        <p:blipFill>
          <a:blip r:embed="rId5"/>
          <a:stretch/>
        </p:blipFill>
        <p:spPr>
          <a:xfrm>
            <a:off x="8231040" y="2484360"/>
            <a:ext cx="1070280" cy="1079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"/>
          <p:cNvPicPr/>
          <p:nvPr/>
        </p:nvPicPr>
        <p:blipFill>
          <a:blip r:embed="rId6"/>
          <a:stretch/>
        </p:blipFill>
        <p:spPr>
          <a:xfrm>
            <a:off x="7367760" y="248436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"/>
          <p:cNvPicPr/>
          <p:nvPr/>
        </p:nvPicPr>
        <p:blipFill>
          <a:blip r:embed="rId7"/>
          <a:stretch/>
        </p:blipFill>
        <p:spPr>
          <a:xfrm>
            <a:off x="7367760" y="334800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2" descr=""/>
          <p:cNvPicPr/>
          <p:nvPr/>
        </p:nvPicPr>
        <p:blipFill>
          <a:blip r:embed="rId8"/>
          <a:stretch/>
        </p:blipFill>
        <p:spPr>
          <a:xfrm>
            <a:off x="8231040" y="3348000"/>
            <a:ext cx="1070280" cy="1079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"/>
          <p:cNvPicPr/>
          <p:nvPr/>
        </p:nvPicPr>
        <p:blipFill>
          <a:blip r:embed="rId9"/>
          <a:stretch/>
        </p:blipFill>
        <p:spPr>
          <a:xfrm>
            <a:off x="3252960" y="5184720"/>
            <a:ext cx="1800000" cy="882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4" descr=""/>
          <p:cNvPicPr/>
          <p:nvPr/>
        </p:nvPicPr>
        <p:blipFill>
          <a:blip r:embed="rId10"/>
          <a:stretch/>
        </p:blipFill>
        <p:spPr>
          <a:xfrm>
            <a:off x="3179880" y="5111640"/>
            <a:ext cx="1800000" cy="882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5" descr=""/>
          <p:cNvPicPr/>
          <p:nvPr/>
        </p:nvPicPr>
        <p:blipFill>
          <a:blip r:embed="rId11"/>
          <a:stretch/>
        </p:blipFill>
        <p:spPr>
          <a:xfrm>
            <a:off x="3108240" y="5040360"/>
            <a:ext cx="1800360" cy="882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6" descr=""/>
          <p:cNvPicPr/>
          <p:nvPr/>
        </p:nvPicPr>
        <p:blipFill>
          <a:blip r:embed="rId12"/>
          <a:stretch/>
        </p:blipFill>
        <p:spPr>
          <a:xfrm>
            <a:off x="7572240" y="5184720"/>
            <a:ext cx="1800360" cy="8827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"/>
          <p:cNvPicPr/>
          <p:nvPr/>
        </p:nvPicPr>
        <p:blipFill>
          <a:blip r:embed="rId13"/>
          <a:stretch/>
        </p:blipFill>
        <p:spPr>
          <a:xfrm>
            <a:off x="7499520" y="5111640"/>
            <a:ext cx="1800000" cy="882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8" descr=""/>
          <p:cNvPicPr/>
          <p:nvPr/>
        </p:nvPicPr>
        <p:blipFill>
          <a:blip r:embed="rId14"/>
          <a:stretch/>
        </p:blipFill>
        <p:spPr>
          <a:xfrm>
            <a:off x="7427880" y="5040360"/>
            <a:ext cx="1800360" cy="882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9" descr=""/>
          <p:cNvPicPr/>
          <p:nvPr/>
        </p:nvPicPr>
        <p:blipFill>
          <a:blip r:embed="rId15"/>
          <a:stretch/>
        </p:blipFill>
        <p:spPr>
          <a:xfrm>
            <a:off x="2171880" y="3017880"/>
            <a:ext cx="1087200" cy="10875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0" descr=""/>
          <p:cNvPicPr/>
          <p:nvPr/>
        </p:nvPicPr>
        <p:blipFill>
          <a:blip r:embed="rId16"/>
          <a:stretch/>
        </p:blipFill>
        <p:spPr>
          <a:xfrm>
            <a:off x="2100240" y="4960800"/>
            <a:ext cx="1087560" cy="10875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1" descr=""/>
          <p:cNvPicPr/>
          <p:nvPr/>
        </p:nvPicPr>
        <p:blipFill>
          <a:blip r:embed="rId17"/>
          <a:stretch/>
        </p:blipFill>
        <p:spPr>
          <a:xfrm>
            <a:off x="6492960" y="3017880"/>
            <a:ext cx="1087200" cy="10875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2" descr=""/>
          <p:cNvPicPr/>
          <p:nvPr/>
        </p:nvPicPr>
        <p:blipFill>
          <a:blip r:embed="rId18"/>
          <a:stretch/>
        </p:blipFill>
        <p:spPr>
          <a:xfrm>
            <a:off x="6492960" y="4962600"/>
            <a:ext cx="1087200" cy="10872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5600" y="523440"/>
            <a:ext cx="1043172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Calibri Light"/>
              </a:rPr>
              <a:t>           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  <a:ea typeface="DejaVu Sans"/>
              </a:rPr>
              <a:t>Загальні збори і письмове опитуванн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9758520" y="6432480"/>
            <a:ext cx="1110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B808EB73-63D7-4645-A09D-4AF70C269B98}" type="slidenum">
              <a:rPr b="0" lang="uk-UA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073240" y="1030320"/>
          <a:ext cx="8145360" cy="5335560"/>
        </p:xfrm>
        <a:graphic>
          <a:graphicData uri="http://schemas.openxmlformats.org/drawingml/2006/table">
            <a:tbl>
              <a:tblPr/>
              <a:tblGrid>
                <a:gridCol w="1000080"/>
                <a:gridCol w="6081840"/>
                <a:gridCol w="1063440"/>
              </a:tblGrid>
              <a:tr h="469800">
                <a:tc>
                  <a:txBody>
                    <a:bodyPr lIns="90000" rIns="90000" tIns="6372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Бул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372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Стал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6600" bIns="46800" anchor="ctr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“</a:t>
                      </a:r>
                      <a:r>
                        <a:rPr b="1" lang="uk-UA" sz="2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БАЛАНСОУТРИМАННЯ”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6600" bIns="46800" anchor="ctr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УПРАВЛІННЯ БУДИНКОМ ОСБ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6600" bIns="46800" anchor="ctr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САМОСТІЙНЕ УТРИМАНН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6600" bIns="46800" anchor="ctr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ПІЛЬГИ І СУБСИДІЇ НА ВНЕС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6600" bIns="46800" anchor="ctr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ДНЕ ОСББ НА КІЛЬКА БУДИНКІ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2" name="Picture 66" descr=""/>
          <p:cNvPicPr/>
          <p:nvPr/>
        </p:nvPicPr>
        <p:blipFill>
          <a:blip r:embed="rId1"/>
          <a:stretch/>
        </p:blipFill>
        <p:spPr>
          <a:xfrm>
            <a:off x="2031840" y="1389240"/>
            <a:ext cx="1087560" cy="10872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7" descr=""/>
          <p:cNvPicPr/>
          <p:nvPr/>
        </p:nvPicPr>
        <p:blipFill>
          <a:blip r:embed="rId2"/>
          <a:stretch/>
        </p:blipFill>
        <p:spPr>
          <a:xfrm>
            <a:off x="9132840" y="139392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8" descr=""/>
          <p:cNvPicPr/>
          <p:nvPr/>
        </p:nvPicPr>
        <p:blipFill>
          <a:blip r:embed="rId3"/>
          <a:stretch/>
        </p:blipFill>
        <p:spPr>
          <a:xfrm>
            <a:off x="2049480" y="437832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9" descr=""/>
          <p:cNvPicPr/>
          <p:nvPr/>
        </p:nvPicPr>
        <p:blipFill>
          <a:blip r:embed="rId4"/>
          <a:stretch/>
        </p:blipFill>
        <p:spPr>
          <a:xfrm>
            <a:off x="9169560" y="437832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0" descr=""/>
          <p:cNvPicPr/>
          <p:nvPr/>
        </p:nvPicPr>
        <p:blipFill>
          <a:blip r:embed="rId5"/>
          <a:stretch/>
        </p:blipFill>
        <p:spPr>
          <a:xfrm>
            <a:off x="2039760" y="2476440"/>
            <a:ext cx="1086120" cy="10857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1" descr=""/>
          <p:cNvPicPr/>
          <p:nvPr/>
        </p:nvPicPr>
        <p:blipFill>
          <a:blip r:embed="rId6"/>
          <a:stretch/>
        </p:blipFill>
        <p:spPr>
          <a:xfrm>
            <a:off x="9169560" y="236700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2" descr=""/>
          <p:cNvPicPr/>
          <p:nvPr/>
        </p:nvPicPr>
        <p:blipFill>
          <a:blip r:embed="rId7"/>
          <a:stretch/>
        </p:blipFill>
        <p:spPr>
          <a:xfrm>
            <a:off x="2039760" y="3378240"/>
            <a:ext cx="1086120" cy="1085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3" descr=""/>
          <p:cNvPicPr/>
          <p:nvPr/>
        </p:nvPicPr>
        <p:blipFill>
          <a:blip r:embed="rId8"/>
          <a:stretch/>
        </p:blipFill>
        <p:spPr>
          <a:xfrm>
            <a:off x="9156600" y="3382920"/>
            <a:ext cx="1086120" cy="1085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4" descr=""/>
          <p:cNvPicPr/>
          <p:nvPr/>
        </p:nvPicPr>
        <p:blipFill>
          <a:blip r:embed="rId9"/>
          <a:stretch/>
        </p:blipFill>
        <p:spPr>
          <a:xfrm>
            <a:off x="2039760" y="5324400"/>
            <a:ext cx="1086120" cy="1085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5" descr=""/>
          <p:cNvPicPr/>
          <p:nvPr/>
        </p:nvPicPr>
        <p:blipFill>
          <a:blip r:embed="rId10"/>
          <a:stretch/>
        </p:blipFill>
        <p:spPr>
          <a:xfrm>
            <a:off x="9169560" y="5302080"/>
            <a:ext cx="1085760" cy="10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itle 1"/>
          <p:cNvSpPr/>
          <p:nvPr/>
        </p:nvSpPr>
        <p:spPr>
          <a:xfrm>
            <a:off x="2216160" y="1155600"/>
            <a:ext cx="58291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MS PGothic"/>
              </a:rPr>
              <a:t>Складання статуту ОСББ згідно з новим законодавств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itle 1"/>
          <p:cNvSpPr/>
          <p:nvPr/>
        </p:nvSpPr>
        <p:spPr>
          <a:xfrm>
            <a:off x="2847960" y="2700360"/>
            <a:ext cx="528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Відступ від змісту Типового статуту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 Light"/>
              </a:rPr>
              <a:t>чи можна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Відступ від змісту Типового статуту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 Light"/>
              </a:rPr>
              <a:t>чи варто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2"/>
          <p:cNvSpPr/>
          <p:nvPr/>
        </p:nvSpPr>
        <p:spPr>
          <a:xfrm flipH="1">
            <a:off x="7106400" y="4437000"/>
            <a:ext cx="863640" cy="1096920"/>
          </a:xfrm>
          <a:prstGeom prst="rect">
            <a:avLst/>
          </a:prstGeom>
          <a:solidFill>
            <a:srgbClr val="eeeeee"/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СТАТ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ОСБ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328680"/>
            <a:ext cx="10945800" cy="20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Calibri"/>
              </a:rPr>
              <a:t>Закон України “Про особливості здійснення права власності у багатоквартирному будинку” від 14.05.2015 № 417-VIII</a:t>
            </a:r>
            <a:br>
              <a:rPr sz="3400"/>
            </a:br>
            <a:r>
              <a:rPr b="1" lang="en-US" sz="3400" spc="-1" strike="noStrike">
                <a:solidFill>
                  <a:srgbClr val="0070c0"/>
                </a:solidFill>
                <a:latin typeface="Calibri"/>
              </a:rPr>
              <a:t>(чинний з 1 липня 2015 р.) </a:t>
            </a: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108320" y="2484360"/>
            <a:ext cx="1400400" cy="19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4135320" y="4511520"/>
            <a:ext cx="847800" cy="1125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2973240" y="3730680"/>
            <a:ext cx="676440" cy="963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4"/>
          <a:stretch/>
        </p:blipFill>
        <p:spPr>
          <a:xfrm>
            <a:off x="3359160" y="4694400"/>
            <a:ext cx="668160" cy="96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5"/>
          <a:stretch/>
        </p:blipFill>
        <p:spPr>
          <a:xfrm>
            <a:off x="4965840" y="4251240"/>
            <a:ext cx="693720" cy="965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6"/>
          <a:stretch/>
        </p:blipFill>
        <p:spPr>
          <a:xfrm>
            <a:off x="6800760" y="2484360"/>
            <a:ext cx="1381320" cy="1900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7"/>
          <a:stretch/>
        </p:blipFill>
        <p:spPr>
          <a:xfrm>
            <a:off x="6551640" y="4370400"/>
            <a:ext cx="834840" cy="110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8"/>
          <a:stretch/>
        </p:blipFill>
        <p:spPr>
          <a:xfrm>
            <a:off x="7157880" y="3828960"/>
            <a:ext cx="667080" cy="951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9"/>
          <a:stretch/>
        </p:blipFill>
        <p:spPr>
          <a:xfrm>
            <a:off x="7257960" y="5094360"/>
            <a:ext cx="658800" cy="950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10"/>
          <a:stretch/>
        </p:blipFill>
        <p:spPr>
          <a:xfrm>
            <a:off x="7807320" y="4479840"/>
            <a:ext cx="684360" cy="951120"/>
          </a:xfrm>
          <a:prstGeom prst="rect">
            <a:avLst/>
          </a:prstGeom>
          <a:ln w="0">
            <a:noFill/>
          </a:ln>
        </p:spPr>
      </p:pic>
      <p:sp>
        <p:nvSpPr>
          <p:cNvPr id="100" name="Freeform 13"/>
          <p:cNvSpPr/>
          <p:nvPr/>
        </p:nvSpPr>
        <p:spPr>
          <a:xfrm flipV="1">
            <a:off x="5735520" y="2428200"/>
            <a:ext cx="922320" cy="833400"/>
          </a:xfrm>
          <a:custGeom>
            <a:avLst/>
            <a:gdLst>
              <a:gd name="textAreaLeft" fmla="*/ 0 w 922320"/>
              <a:gd name="textAreaRight" fmla="*/ 922680 w 922320"/>
              <a:gd name="textAreaTop" fmla="*/ -360 h 833400"/>
              <a:gd name="textAreaBottom" fmla="*/ 833400 h 833400"/>
            </a:gdLst>
            <a:ahLst/>
            <a:rect l="textAreaLeft" t="textAreaTop" r="textAreaRight" b="textAreaBottom"/>
            <a:pathLst>
              <a:path w="787" h="799">
                <a:moveTo>
                  <a:pt x="439" y="12"/>
                </a:moveTo>
                <a:lnTo>
                  <a:pt x="535" y="102"/>
                </a:lnTo>
                <a:lnTo>
                  <a:pt x="391" y="246"/>
                </a:lnTo>
                <a:lnTo>
                  <a:pt x="252" y="108"/>
                </a:lnTo>
                <a:lnTo>
                  <a:pt x="349" y="12"/>
                </a:lnTo>
                <a:lnTo>
                  <a:pt x="0" y="0"/>
                </a:lnTo>
                <a:lnTo>
                  <a:pt x="12" y="348"/>
                </a:lnTo>
                <a:lnTo>
                  <a:pt x="108" y="258"/>
                </a:lnTo>
                <a:lnTo>
                  <a:pt x="282" y="433"/>
                </a:lnTo>
                <a:lnTo>
                  <a:pt x="282" y="799"/>
                </a:lnTo>
                <a:lnTo>
                  <a:pt x="511" y="799"/>
                </a:lnTo>
                <a:lnTo>
                  <a:pt x="511" y="427"/>
                </a:lnTo>
                <a:lnTo>
                  <a:pt x="685" y="252"/>
                </a:lnTo>
                <a:lnTo>
                  <a:pt x="781" y="348"/>
                </a:lnTo>
                <a:lnTo>
                  <a:pt x="787" y="0"/>
                </a:lnTo>
                <a:lnTo>
                  <a:pt x="439" y="12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2090880" y="5745240"/>
            <a:ext cx="3927240" cy="863640"/>
          </a:xfrm>
          <a:prstGeom prst="foldedCorner">
            <a:avLst>
              <a:gd name="adj" fmla="val 12500"/>
            </a:avLst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  <a:ea typeface="Arial Unicode MS"/>
              </a:rPr>
              <a:t>Закон “Про особливості..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15"/>
          <p:cNvSpPr/>
          <p:nvPr/>
        </p:nvSpPr>
        <p:spPr>
          <a:xfrm>
            <a:off x="6338880" y="5745240"/>
            <a:ext cx="3927600" cy="863640"/>
          </a:xfrm>
          <a:prstGeom prst="foldedCorner">
            <a:avLst>
              <a:gd name="adj" fmla="val 12500"/>
            </a:avLst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  <a:ea typeface="Arial Unicode MS"/>
              </a:rPr>
              <a:t>Зміни в Закон “Про ОСББ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923400" y="1449360"/>
            <a:ext cx="97441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8640" indent="-45720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Повинен відповідати Типовому статуту ОСББ (затв. наказом ДЖКГ № 141 від 27.07.2003 р., в редакції наказу Мінрегіону № 238 від 23.09.201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8640" indent="-45720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Може містити інші відомості, відмінні від положень Типового статут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8640" indent="-45720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Закон не встановлює строкі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8640" indent="-45720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Закон прямо передбачає збереження чинності у частині, що йому не </a:t>
            </a:r>
            <a:r>
              <a:rPr b="0" lang="uk-UA" sz="2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суперечит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8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 Narrow"/>
              </a:rPr>
              <a:t>АЛ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8640" indent="-45720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Вимоги Податкового кодексу України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8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привести у відповідність треба до 01.01.2017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8640" indent="-45720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до 01.01.2017 виключення з Реєстру неприбуткових забороне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9758520" y="6432480"/>
            <a:ext cx="1110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2187B117-74A4-461E-A433-3994071D1A9A}" type="slidenum">
              <a:rPr b="0" lang="uk-UA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264960" y="345600"/>
            <a:ext cx="100490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Calibri Light"/>
              </a:rPr>
              <a:t>           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  <a:ea typeface="DejaVu Sans"/>
              </a:rPr>
              <a:t>Приведення чинних статутів у відповідність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98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DejaVu Sans"/>
              </a:rPr>
              <a:t>Співфінансування капремонту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9520" y="1680840"/>
            <a:ext cx="51577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ч.7 ст.10 Закону України “Про приватизацію державного житлового фонду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172200" y="1680840"/>
            <a:ext cx="51832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.22 ч.1 ст.26 Закону України “Про місцеве самоврядування в Україні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72200" y="2682360"/>
            <a:ext cx="5183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2) затвердження програм соціально-економічного та культурного розвитку відповідних адміністративно-територіальних одиниць, цільових програм з інших питань місцевого самоврядува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39520" y="2682360"/>
            <a:ext cx="5157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Колишні власники (їх правонаступники), які володіл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агатоквартирними будинками до моменту приватизації, зобов'язані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рати участь у фінансуванні їх ремонту та сприяти організації йо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ня у порядку, що визначається Кабінетом Міністрів Україн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и, що виникають з цього питання, вирішуються суд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98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DejaVu Sans"/>
              </a:rPr>
              <a:t>Співфінансування капремонту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9520" y="1680840"/>
            <a:ext cx="51577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ч.7 ст.10 Закону України “Про приватизацію державного житлового фонду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172200" y="1680840"/>
            <a:ext cx="51832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.22 ч.1 ст.26 Закону України “Про місцеве самоврядування в Україні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72200" y="2682360"/>
            <a:ext cx="5183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2) затвердження програм соціально-економічного та культурного розвитку відповідних адміністративно-територіальних одиниць, цільових програм з інших питань місцевого самоврядува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39520" y="2682360"/>
            <a:ext cx="5157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Колишні власники (їх правонаступники), які володіл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агатоквартирними будинками до моменту приватизації, зобов'язані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рати участь у фінансуванні їх ремонту та сприяти організації йо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ня у порядку, що визначається Кабінетом Міністрів Україн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и, що виникають з цього питання, вирішуються суд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2244600" y="70020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Arial"/>
                <a:ea typeface="DejaVu Sans"/>
              </a:rPr>
              <a:t>Спільне майно: 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Arial"/>
                <a:ea typeface="DejaVu Sans"/>
              </a:rPr>
              <a:t>три форми управління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2057400" y="213372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664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461D-05EB-4C54-A82D-27F601A2C88A}" type="slidenum">
              <a:rPr b="1" lang="ru-RU" sz="1200" spc="-1" strike="noStrike">
                <a:solidFill>
                  <a:srgbClr val="003366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2244600" y="2016000"/>
            <a:ext cx="8018640" cy="4499280"/>
            <a:chOff x="2244600" y="2016000"/>
            <a:chExt cx="8018640" cy="4499280"/>
          </a:xfrm>
        </p:grpSpPr>
        <p:sp>
          <p:nvSpPr>
            <p:cNvPr id="107" name="Rectangle 5"/>
            <p:cNvSpPr/>
            <p:nvPr/>
          </p:nvSpPr>
          <p:spPr>
            <a:xfrm>
              <a:off x="4295520" y="2016000"/>
              <a:ext cx="3610080" cy="733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6600"/>
                  </a:solidFill>
                  <a:latin typeface="Arial"/>
                  <a:ea typeface="DejaVu Sans"/>
                </a:rPr>
                <a:t>Форми управлінн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6600"/>
                  </a:solidFill>
                  <a:latin typeface="Arial"/>
                  <a:ea typeface="DejaVu Sans"/>
                </a:rPr>
                <a:t>багатоквартирним будинком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6"/>
            <p:cNvSpPr/>
            <p:nvPr/>
          </p:nvSpPr>
          <p:spPr>
            <a:xfrm>
              <a:off x="6132240" y="2751120"/>
              <a:ext cx="0" cy="641520"/>
            </a:xfrm>
            <a:prstGeom prst="line">
              <a:avLst/>
            </a:prstGeom>
            <a:ln w="360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7"/>
            <p:cNvSpPr/>
            <p:nvPr/>
          </p:nvSpPr>
          <p:spPr>
            <a:xfrm>
              <a:off x="3254400" y="3087720"/>
              <a:ext cx="5630760" cy="0"/>
            </a:xfrm>
            <a:prstGeom prst="line">
              <a:avLst/>
            </a:prstGeom>
            <a:ln w="360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3254400" y="3087720"/>
              <a:ext cx="0" cy="426960"/>
            </a:xfrm>
            <a:prstGeom prst="line">
              <a:avLst/>
            </a:prstGeom>
            <a:ln w="360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8886600" y="3087720"/>
              <a:ext cx="0" cy="426960"/>
            </a:xfrm>
            <a:prstGeom prst="line">
              <a:avLst/>
            </a:prstGeom>
            <a:ln w="360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244600" y="3394080"/>
              <a:ext cx="1979640" cy="671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6600"/>
                  </a:solidFill>
                  <a:latin typeface="Arial"/>
                  <a:ea typeface="DejaVu Sans"/>
                </a:rPr>
                <a:t>Безпосередньо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6600"/>
                  </a:solidFill>
                  <a:latin typeface="Arial"/>
                  <a:ea typeface="DejaVu Sans"/>
                </a:rPr>
                <a:t>співвласник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5141880" y="3394080"/>
              <a:ext cx="1977840" cy="671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6600"/>
                  </a:solidFill>
                  <a:latin typeface="Arial"/>
                  <a:ea typeface="DejaVu Sans"/>
                </a:rPr>
                <a:t>ОСБ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7886520" y="3394080"/>
              <a:ext cx="1979640" cy="671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6600"/>
                  </a:solidFill>
                  <a:latin typeface="Arial"/>
                  <a:ea typeface="DejaVu Sans"/>
                </a:rPr>
                <a:t>Управител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4325760" y="5781600"/>
              <a:ext cx="3610080" cy="733680"/>
            </a:xfrm>
            <a:prstGeom prst="rect">
              <a:avLst/>
            </a:prstGeom>
            <a:gradFill rotWithShape="0">
              <a:gsLst>
                <a:gs pos="0">
                  <a:srgbClr val="cfe7f5"/>
                </a:gs>
                <a:gs pos="100000">
                  <a:srgbClr val="e6e6ff"/>
                </a:gs>
              </a:gsLst>
              <a:lin ang="5400000"/>
            </a:gradFill>
            <a:ln w="9360">
              <a:solidFill>
                <a:srgbClr val="66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6666ff"/>
                  </a:solidFill>
                  <a:latin typeface="Arial"/>
                  <a:ea typeface="DejaVu Sans"/>
                </a:rPr>
                <a:t>Вибір</a:t>
              </a:r>
              <a:r>
                <a:rPr b="0" lang="uk-UA" sz="2000" spc="-1" strike="noStrike">
                  <a:solidFill>
                    <a:srgbClr val="6666ff"/>
                  </a:solidFill>
                  <a:latin typeface="Arial"/>
                  <a:ea typeface="DejaVu Sans"/>
                </a:rPr>
                <a:t> форми управлінн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6666ff"/>
                  </a:solidFill>
                  <a:latin typeface="Arial"/>
                  <a:ea typeface="DejaVu Sans"/>
                </a:rPr>
                <a:t>багатоквартирним будинком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Line 14"/>
            <p:cNvSpPr/>
            <p:nvPr/>
          </p:nvSpPr>
          <p:spPr>
            <a:xfrm flipV="1">
              <a:off x="6132240" y="4095720"/>
              <a:ext cx="0" cy="736560"/>
            </a:xfrm>
            <a:prstGeom prst="line">
              <a:avLst/>
            </a:prstGeom>
            <a:ln w="3600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Line 15"/>
            <p:cNvSpPr/>
            <p:nvPr/>
          </p:nvSpPr>
          <p:spPr>
            <a:xfrm>
              <a:off x="3254400" y="4525920"/>
              <a:ext cx="5630760" cy="0"/>
            </a:xfrm>
            <a:prstGeom prst="line">
              <a:avLst/>
            </a:prstGeom>
            <a:ln w="360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Line 16"/>
            <p:cNvSpPr/>
            <p:nvPr/>
          </p:nvSpPr>
          <p:spPr>
            <a:xfrm flipV="1">
              <a:off x="3254400" y="4095360"/>
              <a:ext cx="0" cy="430200"/>
            </a:xfrm>
            <a:prstGeom prst="line">
              <a:avLst/>
            </a:prstGeom>
            <a:ln w="3600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 flipV="1">
              <a:off x="8886600" y="4095360"/>
              <a:ext cx="0" cy="430200"/>
            </a:xfrm>
            <a:prstGeom prst="line">
              <a:avLst/>
            </a:prstGeom>
            <a:ln w="3600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5153040" y="4832280"/>
              <a:ext cx="2019240" cy="519120"/>
            </a:xfrm>
            <a:prstGeom prst="rect">
              <a:avLst/>
            </a:prstGeom>
            <a:gradFill rotWithShape="0">
              <a:gsLst>
                <a:gs pos="0">
                  <a:srgbClr val="cfe7f5"/>
                </a:gs>
                <a:gs pos="100000">
                  <a:srgbClr val="e6e6ff"/>
                </a:gs>
              </a:gsLst>
              <a:lin ang="5400000"/>
            </a:gradFill>
            <a:ln w="9360">
              <a:solidFill>
                <a:srgbClr val="66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6666ff"/>
                  </a:solidFill>
                  <a:latin typeface="Arial"/>
                  <a:ea typeface="DejaVu Sans"/>
                </a:rPr>
                <a:t>Власникам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6132240" y="5567400"/>
              <a:ext cx="3243240" cy="0"/>
            </a:xfrm>
            <a:prstGeom prst="line">
              <a:avLst/>
            </a:prstGeom>
            <a:ln w="360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6132240" y="5351040"/>
              <a:ext cx="0" cy="430200"/>
            </a:xfrm>
            <a:prstGeom prst="line">
              <a:avLst/>
            </a:prstGeom>
            <a:ln w="360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21"/>
            <p:cNvSpPr/>
            <p:nvPr/>
          </p:nvSpPr>
          <p:spPr>
            <a:xfrm flipV="1">
              <a:off x="9377280" y="4065480"/>
              <a:ext cx="0" cy="1501920"/>
            </a:xfrm>
            <a:prstGeom prst="line">
              <a:avLst/>
            </a:prstGeom>
            <a:ln w="3600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22"/>
            <p:cNvSpPr/>
            <p:nvPr/>
          </p:nvSpPr>
          <p:spPr>
            <a:xfrm>
              <a:off x="8243640" y="4802040"/>
              <a:ext cx="2019600" cy="517680"/>
            </a:xfrm>
            <a:prstGeom prst="rect">
              <a:avLst/>
            </a:prstGeom>
            <a:gradFill rotWithShape="0">
              <a:gsLst>
                <a:gs pos="0">
                  <a:srgbClr val="cfe7f5"/>
                </a:gs>
                <a:gs pos="100000">
                  <a:srgbClr val="e6e6ff"/>
                </a:gs>
              </a:gsLst>
              <a:lin ang="5400000"/>
            </a:gradFill>
            <a:ln w="9360">
              <a:solidFill>
                <a:srgbClr val="66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6666ff"/>
                  </a:solidFill>
                  <a:latin typeface="Arial"/>
                  <a:ea typeface="DejaVu Sans"/>
                </a:rPr>
                <a:t>Органом місцевого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6666ff"/>
                  </a:solidFill>
                  <a:latin typeface="Arial"/>
                  <a:ea typeface="DejaVu Sans"/>
                </a:rPr>
                <a:t>самоврядуванн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Группа 1"/>
          <p:cNvGrpSpPr/>
          <p:nvPr/>
        </p:nvGrpSpPr>
        <p:grpSpPr>
          <a:xfrm>
            <a:off x="2035080" y="650880"/>
            <a:ext cx="8037720" cy="5910120"/>
            <a:chOff x="2035080" y="650880"/>
            <a:chExt cx="8037720" cy="5910120"/>
          </a:xfrm>
        </p:grpSpPr>
        <p:sp>
          <p:nvSpPr>
            <p:cNvPr id="126" name="Text Box 1"/>
            <p:cNvSpPr/>
            <p:nvPr/>
          </p:nvSpPr>
          <p:spPr>
            <a:xfrm>
              <a:off x="2035080" y="650880"/>
              <a:ext cx="8036280" cy="1016280"/>
            </a:xfrm>
            <a:prstGeom prst="rect">
              <a:avLst/>
            </a:prstGeom>
            <a:gradFill rotWithShape="0">
              <a:gsLst>
                <a:gs pos="0">
                  <a:srgbClr val="729fcf"/>
                </a:gs>
                <a:gs pos="100000">
                  <a:srgbClr val="204a87"/>
                </a:gs>
              </a:gsLst>
              <a:lin ang="15300000"/>
            </a:gra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uk-UA" sz="26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Закон України “Про особливості здійснення права власності у багатоквартирному будинку” (від 14.05.2015 № 417-VIII)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 Box 2"/>
            <p:cNvSpPr/>
            <p:nvPr/>
          </p:nvSpPr>
          <p:spPr>
            <a:xfrm>
              <a:off x="2898720" y="1895760"/>
              <a:ext cx="7174080" cy="875520"/>
            </a:xfrm>
            <a:prstGeom prst="rect">
              <a:avLst/>
            </a:prstGeom>
            <a:gradFill rotWithShape="0">
              <a:gsLst>
                <a:gs pos="0">
                  <a:srgbClr val="729fcf"/>
                </a:gs>
                <a:gs pos="100000">
                  <a:srgbClr val="204a87"/>
                </a:gs>
              </a:gsLst>
              <a:lin ang="15300000"/>
            </a:gra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ffff99"/>
                  </a:solidFill>
                  <a:latin typeface="Arial Narrow"/>
                  <a:ea typeface="Arial Unicode MS"/>
                </a:rPr>
                <a:t>Форма протоколу зборів співвласників багатоквартирного будинку (наказ Мінрегіону від 25.08.2015  № 203)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 Box 3"/>
            <p:cNvSpPr/>
            <p:nvPr/>
          </p:nvSpPr>
          <p:spPr>
            <a:xfrm>
              <a:off x="2898720" y="3056400"/>
              <a:ext cx="7172640" cy="768600"/>
            </a:xfrm>
            <a:prstGeom prst="rect">
              <a:avLst/>
            </a:prstGeom>
            <a:gradFill rotWithShape="0">
              <a:gsLst>
                <a:gs pos="0">
                  <a:srgbClr val="729fcf"/>
                </a:gs>
                <a:gs pos="100000">
                  <a:srgbClr val="204a87"/>
                </a:gs>
              </a:gsLst>
              <a:lin ang="15300000"/>
            </a:gra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ffff99"/>
                  </a:solidFill>
                  <a:latin typeface="Arial Narrow"/>
                  <a:ea typeface="Arial Unicode MS"/>
                </a:rPr>
                <a:t>Нова редакція Типового статуту ОСББ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99"/>
                  </a:solidFill>
                  <a:latin typeface="Arial Narrow"/>
                  <a:ea typeface="Arial Unicode MS"/>
                </a:rPr>
                <a:t>(наказ Мінрегіону </a:t>
              </a:r>
              <a:r>
                <a:rPr b="1" lang="uk-UA" sz="2200" spc="-1" strike="noStrike">
                  <a:solidFill>
                    <a:srgbClr val="ffff99"/>
                  </a:solidFill>
                  <a:latin typeface="Arial Narrow"/>
                  <a:ea typeface="Arial Unicode MS"/>
                </a:rPr>
                <a:t>від 23.09.2015 № 238)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 Box 4"/>
            <p:cNvSpPr/>
            <p:nvPr/>
          </p:nvSpPr>
          <p:spPr>
            <a:xfrm>
              <a:off x="2898720" y="4021200"/>
              <a:ext cx="7174080" cy="1396800"/>
            </a:xfrm>
            <a:prstGeom prst="rect">
              <a:avLst/>
            </a:prstGeom>
            <a:gradFill rotWithShape="0">
              <a:gsLst>
                <a:gs pos="0">
                  <a:srgbClr val="729fcf"/>
                </a:gs>
                <a:gs pos="100000">
                  <a:srgbClr val="204a87"/>
                </a:gs>
              </a:gsLst>
              <a:lin ang="15300000"/>
            </a:grad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ffff99"/>
                  </a:solidFill>
                  <a:latin typeface="Arial Narrow"/>
                  <a:ea typeface="Arial Unicode MS"/>
                </a:rPr>
                <a:t>Порядок зберігання виконавчими комітетами [...] протоколів зборів співвласників та розміщення ними на офіційному веб-сайті інформації про рішення, прийняті такими зборами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ffff99"/>
                  </a:solidFill>
                  <a:latin typeface="Arial Narrow"/>
                  <a:ea typeface="Arial Unicode MS"/>
                </a:rPr>
                <a:t>(Постанова КМУ </a:t>
              </a:r>
              <a:r>
                <a:rPr b="1" lang="ru-RU" sz="2200" spc="-1" strike="noStrike">
                  <a:solidFill>
                    <a:srgbClr val="ffff99"/>
                  </a:solidFill>
                  <a:latin typeface="Arial Narrow"/>
                  <a:ea typeface="Arial Unicode MS"/>
                </a:rPr>
                <a:t>від 24.02.2016 № 109)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ffff99"/>
                  </a:solidFill>
                  <a:latin typeface="Arial Narrow"/>
                  <a:ea typeface="Arial Unicode MS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 Box 5"/>
            <p:cNvSpPr/>
            <p:nvPr/>
          </p:nvSpPr>
          <p:spPr>
            <a:xfrm>
              <a:off x="2898720" y="5613840"/>
              <a:ext cx="7174080" cy="892080"/>
            </a:xfrm>
            <a:prstGeom prst="rect">
              <a:avLst/>
            </a:prstGeom>
            <a:gradFill rotWithShape="0">
              <a:gsLst>
                <a:gs pos="0">
                  <a:srgbClr val="729fcf"/>
                </a:gs>
                <a:gs pos="100000">
                  <a:srgbClr val="204a87"/>
                </a:gs>
              </a:gsLst>
              <a:lin ang="15300000"/>
            </a:grad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uk-UA" sz="2200" spc="-1" strike="noStrike">
                  <a:solidFill>
                    <a:srgbClr val="ffff00"/>
                  </a:solidFill>
                  <a:latin typeface="Arial Narrow"/>
                  <a:ea typeface="Arial Unicode MS"/>
                </a:rPr>
                <a:t>Порядок списання з балансу [...] багатоквартирних будинків [...]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ffff99"/>
                  </a:solidFill>
                  <a:latin typeface="Arial Narrow"/>
                  <a:ea typeface="Arial Unicode MS"/>
                </a:rPr>
                <a:t>(Постанова КМУ </a:t>
              </a:r>
              <a:r>
                <a:rPr b="1" lang="uk-UA" sz="2200" spc="-1" strike="noStrike">
                  <a:solidFill>
                    <a:srgbClr val="ff0000"/>
                  </a:solidFill>
                  <a:latin typeface="Arial Narrow"/>
                  <a:ea typeface="Arial Unicode MS"/>
                </a:rPr>
                <a:t>від 30.03.2016 № …)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uk-UA" sz="2200" spc="-1" strike="noStrike">
                  <a:solidFill>
                    <a:srgbClr val="ffff00"/>
                  </a:solidFill>
                  <a:latin typeface="Arial Narrow"/>
                  <a:ea typeface="Arial Unicode MS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2428560" y="1689120"/>
              <a:ext cx="1440" cy="4519080"/>
            </a:xfrm>
            <a:prstGeom prst="line">
              <a:avLst/>
            </a:prstGeom>
            <a:ln w="360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2442960" y="2078640"/>
              <a:ext cx="441000" cy="1800"/>
            </a:xfrm>
            <a:prstGeom prst="line">
              <a:avLst/>
            </a:prstGeom>
            <a:ln w="360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>
              <a:off x="2442960" y="3197520"/>
              <a:ext cx="441000" cy="1800"/>
            </a:xfrm>
            <a:prstGeom prst="line">
              <a:avLst/>
            </a:prstGeom>
            <a:ln w="360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>
              <a:off x="2458440" y="4362120"/>
              <a:ext cx="441000" cy="1800"/>
            </a:xfrm>
            <a:prstGeom prst="line">
              <a:avLst/>
            </a:prstGeom>
            <a:ln w="360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457360" y="5846040"/>
              <a:ext cx="441000" cy="1800"/>
            </a:xfrm>
            <a:prstGeom prst="line">
              <a:avLst/>
            </a:prstGeom>
            <a:ln w="360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428560" y="6208200"/>
              <a:ext cx="2880" cy="352800"/>
            </a:xfrm>
            <a:prstGeom prst="line">
              <a:avLst/>
            </a:prstGeom>
            <a:ln w="3600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Группа 2"/>
          <p:cNvGrpSpPr/>
          <p:nvPr/>
        </p:nvGrpSpPr>
        <p:grpSpPr>
          <a:xfrm>
            <a:off x="2054160" y="1052640"/>
            <a:ext cx="8037720" cy="4438440"/>
            <a:chOff x="2054160" y="1052640"/>
            <a:chExt cx="8037720" cy="4438440"/>
          </a:xfrm>
        </p:grpSpPr>
        <p:sp>
          <p:nvSpPr>
            <p:cNvPr id="138" name="Text Box 2"/>
            <p:cNvSpPr/>
            <p:nvPr/>
          </p:nvSpPr>
          <p:spPr>
            <a:xfrm>
              <a:off x="2917800" y="4716720"/>
              <a:ext cx="7174080" cy="774360"/>
            </a:xfrm>
            <a:prstGeom prst="rect">
              <a:avLst/>
            </a:prstGeom>
            <a:gradFill rotWithShape="0">
              <a:gsLst>
                <a:gs pos="0">
                  <a:srgbClr val="729fcf"/>
                </a:gs>
                <a:gs pos="100000">
                  <a:srgbClr val="204a87"/>
                </a:gs>
              </a:gsLst>
              <a:lin ang="15300000"/>
            </a:grad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200" spc="-1" strike="noStrike">
                  <a:solidFill>
                    <a:srgbClr val="ffffff"/>
                  </a:solidFill>
                  <a:latin typeface="Arial Narrow"/>
                  <a:ea typeface="DejaVu Sans"/>
                </a:rPr>
                <a:t>Типовий договір про надання послуг з управління багатоквартирним будинком </a:t>
              </a:r>
              <a:r>
                <a:rPr b="0" lang="uk-UA" sz="2200" spc="-1" strike="noStrike">
                  <a:solidFill>
                    <a:srgbClr val="ffff00"/>
                  </a:solidFill>
                  <a:latin typeface="Arial Narrow"/>
                  <a:ea typeface="DejaVu Sans"/>
                </a:rPr>
                <a:t>(проект)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9" name="Группа 1"/>
            <p:cNvGrpSpPr/>
            <p:nvPr/>
          </p:nvGrpSpPr>
          <p:grpSpPr>
            <a:xfrm>
              <a:off x="2054160" y="1052640"/>
              <a:ext cx="8037720" cy="3903480"/>
              <a:chOff x="2054160" y="1052640"/>
              <a:chExt cx="8037720" cy="3903480"/>
            </a:xfrm>
          </p:grpSpPr>
          <p:sp>
            <p:nvSpPr>
              <p:cNvPr id="140" name="Text Box 1"/>
              <p:cNvSpPr/>
              <p:nvPr/>
            </p:nvSpPr>
            <p:spPr>
              <a:xfrm>
                <a:off x="2917800" y="3500640"/>
                <a:ext cx="7174080" cy="1095120"/>
              </a:xfrm>
              <a:prstGeom prst="rect">
                <a:avLst/>
              </a:prstGeom>
              <a:gradFill rotWithShape="0">
                <a:gsLst>
                  <a:gs pos="0">
                    <a:srgbClr val="729fcf"/>
                  </a:gs>
                  <a:gs pos="100000">
                    <a:srgbClr val="204a87"/>
                  </a:gs>
                </a:gsLst>
                <a:lin ang="15300000"/>
              </a:gradFill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200" spc="-1" strike="noStrike">
                    <a:solidFill>
                      <a:srgbClr val="ffffff"/>
                    </a:solidFill>
                    <a:latin typeface="Arial Narrow"/>
                    <a:ea typeface="DejaVu Sans"/>
                  </a:rPr>
                  <a:t>Порядок безоплатної передачі у власність або в постійне користування співвласникам багатоквартирного будинку земельних ділянок [...] </a:t>
                </a:r>
                <a:r>
                  <a:rPr b="0" lang="uk-UA" sz="2200" spc="-1" strike="noStrike">
                    <a:solidFill>
                      <a:srgbClr val="ffff00"/>
                    </a:solidFill>
                    <a:latin typeface="Arial Narrow"/>
                    <a:ea typeface="DejaVu Sans"/>
                  </a:rPr>
                  <a:t>(проект)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3"/>
              <p:cNvSpPr/>
              <p:nvPr/>
            </p:nvSpPr>
            <p:spPr>
              <a:xfrm>
                <a:off x="2450880" y="2295360"/>
                <a:ext cx="10800" cy="2658960"/>
              </a:xfrm>
              <a:prstGeom prst="line">
                <a:avLst/>
              </a:prstGeom>
              <a:ln w="360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4"/>
              <p:cNvSpPr/>
              <p:nvPr/>
            </p:nvSpPr>
            <p:spPr>
              <a:xfrm>
                <a:off x="2462040" y="3694320"/>
                <a:ext cx="441000" cy="1440"/>
              </a:xfrm>
              <a:prstGeom prst="line">
                <a:avLst/>
              </a:prstGeom>
              <a:ln w="360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5"/>
              <p:cNvSpPr/>
              <p:nvPr/>
            </p:nvSpPr>
            <p:spPr>
              <a:xfrm>
                <a:off x="2462040" y="4954680"/>
                <a:ext cx="441000" cy="1440"/>
              </a:xfrm>
              <a:prstGeom prst="line">
                <a:avLst/>
              </a:prstGeom>
              <a:ln w="360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6"/>
              <p:cNvSpPr/>
              <p:nvPr/>
            </p:nvSpPr>
            <p:spPr>
              <a:xfrm>
                <a:off x="2447640" y="1989000"/>
                <a:ext cx="2880" cy="306360"/>
              </a:xfrm>
              <a:prstGeom prst="line">
                <a:avLst/>
              </a:prstGeom>
              <a:ln w="36000">
                <a:solidFill>
                  <a:srgbClr val="00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Text Box 7"/>
              <p:cNvSpPr/>
              <p:nvPr/>
            </p:nvSpPr>
            <p:spPr>
              <a:xfrm>
                <a:off x="2909880" y="2563920"/>
                <a:ext cx="7174080" cy="774720"/>
              </a:xfrm>
              <a:prstGeom prst="rect">
                <a:avLst/>
              </a:prstGeom>
              <a:gradFill rotWithShape="0">
                <a:gsLst>
                  <a:gs pos="0">
                    <a:srgbClr val="729fcf"/>
                  </a:gs>
                  <a:gs pos="100000">
                    <a:srgbClr val="204a87"/>
                  </a:gs>
                </a:gsLst>
                <a:lin ang="15300000"/>
              </a:gradFill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200" spc="-1" strike="noStrike">
                    <a:solidFill>
                      <a:srgbClr val="ffffff"/>
                    </a:solidFill>
                    <a:latin typeface="Arial Narrow"/>
                    <a:ea typeface="DejaVu Sans"/>
                  </a:rPr>
                  <a:t>Порядок проведення конкурсу з призначення управителя для багатоквартирного будинку [...] </a:t>
                </a:r>
                <a:r>
                  <a:rPr b="0" lang="uk-UA" sz="2200" spc="-1" strike="noStrike">
                    <a:solidFill>
                      <a:srgbClr val="ffff00"/>
                    </a:solidFill>
                    <a:latin typeface="Arial Narrow"/>
                    <a:ea typeface="DejaVu Sans"/>
                  </a:rPr>
                  <a:t>(розробляється)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8"/>
              <p:cNvSpPr/>
              <p:nvPr/>
            </p:nvSpPr>
            <p:spPr>
              <a:xfrm>
                <a:off x="2454120" y="2759040"/>
                <a:ext cx="441000" cy="1440"/>
              </a:xfrm>
              <a:prstGeom prst="line">
                <a:avLst/>
              </a:prstGeom>
              <a:ln w="360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Text Box 9"/>
              <p:cNvSpPr/>
              <p:nvPr/>
            </p:nvSpPr>
            <p:spPr>
              <a:xfrm>
                <a:off x="2054160" y="1052640"/>
                <a:ext cx="8036280" cy="882360"/>
              </a:xfrm>
              <a:prstGeom prst="rect">
                <a:avLst/>
              </a:prstGeom>
              <a:gradFill rotWithShape="0">
                <a:gsLst>
                  <a:gs pos="0">
                    <a:srgbClr val="729fcf"/>
                  </a:gs>
                  <a:gs pos="100000">
                    <a:srgbClr val="204a87"/>
                  </a:gs>
                </a:gsLst>
                <a:lin ang="15300000"/>
              </a:gra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600" spc="-1" strike="noStrike">
                    <a:solidFill>
                      <a:srgbClr val="ffffff"/>
                    </a:solidFill>
                    <a:latin typeface="Arial Narrow"/>
                    <a:ea typeface="DejaVu Sans"/>
                  </a:rPr>
                  <a:t>Закон України “Про особливості здійснення права власності у багатоквартирному будинку” (від 14.05.2015 № 417-VIII)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1811160" y="2987640"/>
            <a:ext cx="8568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70c0"/>
                </a:solidFill>
                <a:latin typeface="Arial"/>
                <a:ea typeface="DejaVu Sans"/>
              </a:rPr>
              <a:t>ВЛАСНІ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86104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EEB8-B1A4-4E43-B9D1-B5D147020694}" type="slidenum">
              <a:rPr b="1" lang="en-US" sz="1200" spc="-1" strike="noStrike">
                <a:solidFill>
                  <a:srgbClr val="003366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2"/>
          <p:cNvSpPr/>
          <p:nvPr/>
        </p:nvSpPr>
        <p:spPr>
          <a:xfrm>
            <a:off x="2062080" y="638280"/>
            <a:ext cx="8423280" cy="23032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Ст. 10 Закону України "</a:t>
            </a:r>
            <a:r>
              <a:rPr b="1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Про приватизацію державного житлового фонду</a:t>
            </a: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"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ст. 382 </a:t>
            </a:r>
            <a:r>
              <a:rPr b="1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Цивільного кодексу України</a:t>
            </a: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 (2003), ст.5 Закону України “</a:t>
            </a:r>
            <a:r>
              <a:rPr b="1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Пр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особливості здійснення права власності у багатоквартирном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будинку</a:t>
            </a: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” (2015) визначили, що власники квартир у багатоквартирном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будинку є </a:t>
            </a:r>
            <a:r>
              <a:rPr b="1" lang="uk-UA" sz="2200" spc="-1" strike="noStrike" u="sng">
                <a:solidFill>
                  <a:srgbClr val="000000"/>
                </a:solidFill>
                <a:uFillTx/>
                <a:latin typeface="Arial Narrow"/>
                <a:ea typeface="DejaVu Sans"/>
              </a:rPr>
              <a:t>спів</a:t>
            </a: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власниками спільного майна: допоміжних приміщен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будинку, технічного обладнання та елементів зовнішнього благоустро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1758960" y="4014720"/>
            <a:ext cx="8791560" cy="2355840"/>
            <a:chOff x="1758960" y="4014720"/>
            <a:chExt cx="8791560" cy="2355840"/>
          </a:xfrm>
        </p:grpSpPr>
        <p:grpSp>
          <p:nvGrpSpPr>
            <p:cNvPr id="152" name="Group 4"/>
            <p:cNvGrpSpPr/>
            <p:nvPr/>
          </p:nvGrpSpPr>
          <p:grpSpPr>
            <a:xfrm>
              <a:off x="1758960" y="4014720"/>
              <a:ext cx="2318760" cy="2355840"/>
              <a:chOff x="1758960" y="4014720"/>
              <a:chExt cx="2318760" cy="2355840"/>
            </a:xfrm>
          </p:grpSpPr>
          <p:sp>
            <p:nvSpPr>
              <p:cNvPr id="153" name="Rectangle 5"/>
              <p:cNvSpPr/>
              <p:nvPr/>
            </p:nvSpPr>
            <p:spPr>
              <a:xfrm>
                <a:off x="2416320" y="6180120"/>
                <a:ext cx="1318320" cy="190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4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191400" y="5087880"/>
                <a:ext cx="62424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903760" y="5551560"/>
                <a:ext cx="62424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3760" y="5176800"/>
                <a:ext cx="62424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3453480" y="5551560"/>
                <a:ext cx="62424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3453480" y="5176800"/>
                <a:ext cx="62424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3166200" y="5641920"/>
                <a:ext cx="62424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Pictur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3166200" y="5267160"/>
                <a:ext cx="624240" cy="59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Picture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3191400" y="4703760"/>
                <a:ext cx="62424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Pictur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2903760" y="4794120"/>
                <a:ext cx="624240" cy="59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Picture 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3453480" y="4794120"/>
                <a:ext cx="624240" cy="59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16" descr=""/>
              <p:cNvPicPr/>
              <p:nvPr/>
            </p:nvPicPr>
            <p:blipFill>
              <a:blip r:embed="rId11"/>
              <a:stretch/>
            </p:blipFill>
            <p:spPr>
              <a:xfrm>
                <a:off x="3166200" y="4884840"/>
                <a:ext cx="624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AutoShape 17"/>
              <p:cNvSpPr/>
              <p:nvPr/>
            </p:nvSpPr>
            <p:spPr>
              <a:xfrm flipV="1">
                <a:off x="2411640" y="4502160"/>
                <a:ext cx="1410480" cy="496800"/>
              </a:xfrm>
              <a:custGeom>
                <a:avLst/>
                <a:gdLst>
                  <a:gd name="textAreaLeft" fmla="*/ 293760 w 1410480"/>
                  <a:gd name="textAreaRight" fmla="*/ 1116720 w 1410480"/>
                  <a:gd name="textAreaTop" fmla="*/ 102960 h 496800"/>
                  <a:gd name="textAreaBottom" fmla="*/ 393840 h 49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Text Box 18"/>
              <p:cNvSpPr/>
              <p:nvPr/>
            </p:nvSpPr>
            <p:spPr>
              <a:xfrm>
                <a:off x="1758960" y="4014720"/>
                <a:ext cx="15580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000000"/>
                    </a:solidFill>
                    <a:latin typeface="Arial"/>
                    <a:ea typeface="DejaVu Sans"/>
                  </a:rPr>
                  <a:t>До 1992 р.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67" name="Picture 19" descr=""/>
            <p:cNvPicPr/>
            <p:nvPr/>
          </p:nvPicPr>
          <p:blipFill>
            <a:blip r:embed="rId12"/>
            <a:stretch/>
          </p:blipFill>
          <p:spPr>
            <a:xfrm>
              <a:off x="7319880" y="4608360"/>
              <a:ext cx="45252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20"/>
            <p:cNvSpPr/>
            <p:nvPr/>
          </p:nvSpPr>
          <p:spPr>
            <a:xfrm>
              <a:off x="7796160" y="4635360"/>
              <a:ext cx="275436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Державна власніст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21"/>
          <p:cNvGrpSpPr/>
          <p:nvPr/>
        </p:nvGrpSpPr>
        <p:grpSpPr>
          <a:xfrm>
            <a:off x="4756320" y="3990960"/>
            <a:ext cx="5865120" cy="2560320"/>
            <a:chOff x="4756320" y="3990960"/>
            <a:chExt cx="5865120" cy="2560320"/>
          </a:xfrm>
        </p:grpSpPr>
        <p:grpSp>
          <p:nvGrpSpPr>
            <p:cNvPr id="170" name="Group 22"/>
            <p:cNvGrpSpPr/>
            <p:nvPr/>
          </p:nvGrpSpPr>
          <p:grpSpPr>
            <a:xfrm>
              <a:off x="4756320" y="3990960"/>
              <a:ext cx="2129760" cy="2560320"/>
              <a:chOff x="4756320" y="3990960"/>
              <a:chExt cx="2129760" cy="2560320"/>
            </a:xfrm>
          </p:grpSpPr>
          <p:pic>
            <p:nvPicPr>
              <p:cNvPr id="171" name="Picture 23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75280" y="5717160"/>
                <a:ext cx="1810800" cy="83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24" descr=""/>
              <p:cNvPicPr/>
              <p:nvPr/>
            </p:nvPicPr>
            <p:blipFill>
              <a:blip r:embed="rId14"/>
              <a:stretch/>
            </p:blipFill>
            <p:spPr>
              <a:xfrm>
                <a:off x="5368680" y="5553720"/>
                <a:ext cx="6235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5" descr=""/>
              <p:cNvPicPr/>
              <p:nvPr/>
            </p:nvPicPr>
            <p:blipFill>
              <a:blip r:embed="rId15"/>
              <a:stretch/>
            </p:blipFill>
            <p:spPr>
              <a:xfrm>
                <a:off x="5649840" y="4700880"/>
                <a:ext cx="62352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Picture 26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29200" y="5558400"/>
                <a:ext cx="623520" cy="59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7" descr=""/>
              <p:cNvPicPr/>
              <p:nvPr/>
            </p:nvPicPr>
            <p:blipFill>
              <a:blip r:embed="rId17"/>
              <a:stretch/>
            </p:blipFill>
            <p:spPr>
              <a:xfrm>
                <a:off x="5371920" y="5180400"/>
                <a:ext cx="62352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Picture 28" descr=""/>
              <p:cNvPicPr/>
              <p:nvPr/>
            </p:nvPicPr>
            <p:blipFill>
              <a:blip r:embed="rId18"/>
              <a:stretch/>
            </p:blipFill>
            <p:spPr>
              <a:xfrm>
                <a:off x="5640120" y="5657040"/>
                <a:ext cx="62352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29" descr=""/>
              <p:cNvPicPr/>
              <p:nvPr/>
            </p:nvPicPr>
            <p:blipFill>
              <a:blip r:embed="rId19"/>
              <a:stretch/>
            </p:blipFill>
            <p:spPr>
              <a:xfrm>
                <a:off x="5929200" y="5173920"/>
                <a:ext cx="623520" cy="59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30" descr=""/>
              <p:cNvPicPr/>
              <p:nvPr/>
            </p:nvPicPr>
            <p:blipFill>
              <a:blip r:embed="rId20"/>
              <a:stretch/>
            </p:blipFill>
            <p:spPr>
              <a:xfrm>
                <a:off x="5371920" y="4796280"/>
                <a:ext cx="62352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31" descr=""/>
              <p:cNvPicPr/>
              <p:nvPr/>
            </p:nvPicPr>
            <p:blipFill>
              <a:blip r:embed="rId21"/>
              <a:stretch/>
            </p:blipFill>
            <p:spPr>
              <a:xfrm>
                <a:off x="5929200" y="4802400"/>
                <a:ext cx="623520" cy="59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Text Box 32"/>
              <p:cNvSpPr/>
              <p:nvPr/>
            </p:nvSpPr>
            <p:spPr>
              <a:xfrm>
                <a:off x="4756320" y="3990960"/>
                <a:ext cx="12441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000000"/>
                    </a:solidFill>
                    <a:latin typeface="Arial"/>
                    <a:ea typeface="DejaVu Sans"/>
                  </a:rPr>
                  <a:t>Нині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81" name="Picture 33" descr=""/>
              <p:cNvPicPr/>
              <p:nvPr/>
            </p:nvPicPr>
            <p:blipFill>
              <a:blip r:embed="rId22"/>
              <a:stretch/>
            </p:blipFill>
            <p:spPr>
              <a:xfrm>
                <a:off x="5640120" y="5274360"/>
                <a:ext cx="6235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Picture 34" descr=""/>
              <p:cNvPicPr/>
              <p:nvPr/>
            </p:nvPicPr>
            <p:blipFill>
              <a:blip r:embed="rId23"/>
              <a:stretch/>
            </p:blipFill>
            <p:spPr>
              <a:xfrm>
                <a:off x="5640120" y="4893120"/>
                <a:ext cx="62352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Picture 35" descr=""/>
              <p:cNvPicPr/>
              <p:nvPr/>
            </p:nvPicPr>
            <p:blipFill>
              <a:blip r:embed="rId24"/>
              <a:stretch/>
            </p:blipFill>
            <p:spPr>
              <a:xfrm>
                <a:off x="5143320" y="4086360"/>
                <a:ext cx="1630080" cy="1086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4" name="Picture 36" descr=""/>
            <p:cNvPicPr/>
            <p:nvPr/>
          </p:nvPicPr>
          <p:blipFill>
            <a:blip r:embed="rId25"/>
            <a:stretch/>
          </p:blipFill>
          <p:spPr>
            <a:xfrm>
              <a:off x="7319880" y="5494320"/>
              <a:ext cx="45216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37"/>
            <p:cNvSpPr/>
            <p:nvPr/>
          </p:nvSpPr>
          <p:spPr>
            <a:xfrm>
              <a:off x="7796160" y="5092560"/>
              <a:ext cx="28252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Комунальна власніст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 Box 38"/>
            <p:cNvSpPr/>
            <p:nvPr/>
          </p:nvSpPr>
          <p:spPr>
            <a:xfrm>
              <a:off x="7796160" y="5513400"/>
              <a:ext cx="282528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Приватна власніст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7" name="Picture 39" descr=""/>
            <p:cNvPicPr/>
            <p:nvPr/>
          </p:nvPicPr>
          <p:blipFill>
            <a:blip r:embed="rId26"/>
            <a:stretch/>
          </p:blipFill>
          <p:spPr>
            <a:xfrm>
              <a:off x="7319880" y="5060880"/>
              <a:ext cx="452160" cy="432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2197080" y="776160"/>
            <a:ext cx="828036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Narrow"/>
                <a:ea typeface="DejaVu Sans"/>
              </a:rPr>
              <a:t>Cпільне майно багатоквартирного будинк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Narrow"/>
                <a:ea typeface="DejaVu Sans"/>
              </a:rPr>
              <a:t>приміщення загального користування (у тому числі допоміжні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Narrow"/>
                <a:ea typeface="DejaVu Sans"/>
              </a:rPr>
              <a:t>несучі, огороджувальні та несуче-огороджувальні конструкції будинк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Narrow"/>
                <a:ea typeface="DejaVu Sans"/>
              </a:rPr>
              <a:t>механічне, електричне, сантехнічне та інше обладнання всередині або за межами будинку, яке обслуговує більше одного житлового або нежитлового приміщенн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Narrow"/>
                <a:ea typeface="DejaVu Sans"/>
              </a:rPr>
              <a:t>будівлі і споруди, які призначені для задоволення потреб співвласників багатоквартирного будинку та розташовані на прибудинковій території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Narrow"/>
                <a:ea typeface="DejaVu Sans"/>
              </a:rPr>
              <a:t>права на земельну ділянку, на якій розташовані багатоквартирний будинок і належні до нього будівлі та споруди і його прибудинкова територ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9731520" y="6415200"/>
            <a:ext cx="74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C1D3-ED89-4192-9DB0-23A453893672}" type="slidenum">
              <a:rPr b="1" lang="en-US" sz="1200" spc="-1" strike="noStrike">
                <a:solidFill>
                  <a:srgbClr val="003366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4A50-E7CF-408F-BE6A-525EB89F38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"/>
          <p:cNvSpPr/>
          <p:nvPr/>
        </p:nvSpPr>
        <p:spPr>
          <a:xfrm>
            <a:off x="6756480" y="6194520"/>
            <a:ext cx="3311280" cy="71280"/>
          </a:xfrm>
          <a:prstGeom prst="rect">
            <a:avLst/>
          </a:prstGeom>
          <a:solidFill>
            <a:srgbClr val="66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"/>
          <p:cNvGrpSpPr/>
          <p:nvPr/>
        </p:nvGrpSpPr>
        <p:grpSpPr>
          <a:xfrm>
            <a:off x="4987800" y="1539720"/>
            <a:ext cx="2611440" cy="3439800"/>
            <a:chOff x="4987800" y="1539720"/>
            <a:chExt cx="2611440" cy="3439800"/>
          </a:xfrm>
        </p:grpSpPr>
        <p:pic>
          <p:nvPicPr>
            <p:cNvPr id="193" name="Picture 3" descr=""/>
            <p:cNvPicPr/>
            <p:nvPr/>
          </p:nvPicPr>
          <p:blipFill>
            <a:blip r:embed="rId1"/>
            <a:stretch/>
          </p:blipFill>
          <p:spPr>
            <a:xfrm>
              <a:off x="4987800" y="3816000"/>
              <a:ext cx="261144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" descr=""/>
            <p:cNvPicPr/>
            <p:nvPr/>
          </p:nvPicPr>
          <p:blipFill>
            <a:blip r:embed="rId2"/>
            <a:stretch/>
          </p:blipFill>
          <p:spPr>
            <a:xfrm>
              <a:off x="5413320" y="3587400"/>
              <a:ext cx="900000" cy="8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5" descr=""/>
            <p:cNvPicPr/>
            <p:nvPr/>
          </p:nvPicPr>
          <p:blipFill>
            <a:blip r:embed="rId3"/>
            <a:stretch/>
          </p:blipFill>
          <p:spPr>
            <a:xfrm>
              <a:off x="5817960" y="2398320"/>
              <a:ext cx="90036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6" descr=""/>
            <p:cNvPicPr/>
            <p:nvPr/>
          </p:nvPicPr>
          <p:blipFill>
            <a:blip r:embed="rId4"/>
            <a:stretch/>
          </p:blipFill>
          <p:spPr>
            <a:xfrm>
              <a:off x="6219720" y="3592080"/>
              <a:ext cx="900000" cy="83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7" descr=""/>
            <p:cNvPicPr/>
            <p:nvPr/>
          </p:nvPicPr>
          <p:blipFill>
            <a:blip r:embed="rId5"/>
            <a:stretch/>
          </p:blipFill>
          <p:spPr>
            <a:xfrm>
              <a:off x="5416560" y="3065040"/>
              <a:ext cx="90000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8" descr=""/>
            <p:cNvPicPr/>
            <p:nvPr/>
          </p:nvPicPr>
          <p:blipFill>
            <a:blip r:embed="rId6"/>
            <a:stretch/>
          </p:blipFill>
          <p:spPr>
            <a:xfrm>
              <a:off x="5803920" y="3730320"/>
              <a:ext cx="900000" cy="83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9" descr=""/>
            <p:cNvPicPr/>
            <p:nvPr/>
          </p:nvPicPr>
          <p:blipFill>
            <a:blip r:embed="rId7"/>
            <a:stretch/>
          </p:blipFill>
          <p:spPr>
            <a:xfrm>
              <a:off x="6219720" y="3057120"/>
              <a:ext cx="90000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0" descr=""/>
            <p:cNvPicPr/>
            <p:nvPr/>
          </p:nvPicPr>
          <p:blipFill>
            <a:blip r:embed="rId8"/>
            <a:stretch/>
          </p:blipFill>
          <p:spPr>
            <a:xfrm>
              <a:off x="5416560" y="2530080"/>
              <a:ext cx="900000" cy="83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1" descr=""/>
            <p:cNvPicPr/>
            <p:nvPr/>
          </p:nvPicPr>
          <p:blipFill>
            <a:blip r:embed="rId9"/>
            <a:stretch/>
          </p:blipFill>
          <p:spPr>
            <a:xfrm>
              <a:off x="6219720" y="2539800"/>
              <a:ext cx="90000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2" descr=""/>
            <p:cNvPicPr/>
            <p:nvPr/>
          </p:nvPicPr>
          <p:blipFill>
            <a:blip r:embed="rId10"/>
            <a:stretch/>
          </p:blipFill>
          <p:spPr>
            <a:xfrm>
              <a:off x="5803920" y="3195360"/>
              <a:ext cx="900000" cy="8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3" descr=""/>
            <p:cNvPicPr/>
            <p:nvPr/>
          </p:nvPicPr>
          <p:blipFill>
            <a:blip r:embed="rId11"/>
            <a:stretch/>
          </p:blipFill>
          <p:spPr>
            <a:xfrm>
              <a:off x="5803920" y="2665080"/>
              <a:ext cx="90000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4" descr=""/>
            <p:cNvPicPr/>
            <p:nvPr/>
          </p:nvPicPr>
          <p:blipFill>
            <a:blip r:embed="rId12"/>
            <a:stretch/>
          </p:blipFill>
          <p:spPr>
            <a:xfrm>
              <a:off x="5086440" y="1539720"/>
              <a:ext cx="2349360" cy="151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Freeform 15"/>
          <p:cNvSpPr/>
          <p:nvPr/>
        </p:nvSpPr>
        <p:spPr>
          <a:xfrm>
            <a:off x="5691240" y="4637160"/>
            <a:ext cx="1152360" cy="720720"/>
          </a:xfrm>
          <a:custGeom>
            <a:avLst/>
            <a:gdLst>
              <a:gd name="textAreaLeft" fmla="*/ 159840 w 1152360"/>
              <a:gd name="textAreaRight" fmla="*/ 912960 w 1152360"/>
              <a:gd name="textAreaTop" fmla="*/ 110520 h 720720"/>
              <a:gd name="textAreaBottom" fmla="*/ 578520 h 72072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eeeeee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16"/>
          <p:cNvSpPr/>
          <p:nvPr/>
        </p:nvSpPr>
        <p:spPr>
          <a:xfrm>
            <a:off x="4186080" y="4000680"/>
            <a:ext cx="1152720" cy="720720"/>
          </a:xfrm>
          <a:custGeom>
            <a:avLst/>
            <a:gdLst>
              <a:gd name="textAreaLeft" fmla="*/ 159840 w 1152720"/>
              <a:gd name="textAreaRight" fmla="*/ 913320 w 1152720"/>
              <a:gd name="textAreaTop" fmla="*/ 110520 h 720720"/>
              <a:gd name="textAreaBottom" fmla="*/ 578520 h 72072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eeeeee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AutoShape 17"/>
          <p:cNvSpPr/>
          <p:nvPr/>
        </p:nvSpPr>
        <p:spPr>
          <a:xfrm>
            <a:off x="378000" y="447840"/>
            <a:ext cx="4535280" cy="287964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Ст. 42 Земельного кодексу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“</a:t>
            </a: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Земельні ділянки, на яких розташовані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багатоквартирні будинки ... передають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безоплатно у власність або в постій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користування співвласник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багатоквартирного будинку в порядку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встановленому Кабінетом Міністрі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України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18"/>
          <p:cNvSpPr/>
          <p:nvPr/>
        </p:nvSpPr>
        <p:spPr>
          <a:xfrm>
            <a:off x="6959520" y="3855960"/>
            <a:ext cx="1152720" cy="720720"/>
          </a:xfrm>
          <a:custGeom>
            <a:avLst/>
            <a:gdLst>
              <a:gd name="textAreaLeft" fmla="*/ 159840 w 1152720"/>
              <a:gd name="textAreaRight" fmla="*/ 913320 w 1152720"/>
              <a:gd name="textAreaTop" fmla="*/ 110520 h 720720"/>
              <a:gd name="textAreaBottom" fmla="*/ 578520 h 72072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eeeeee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Group 19"/>
          <p:cNvGrpSpPr/>
          <p:nvPr/>
        </p:nvGrpSpPr>
        <p:grpSpPr>
          <a:xfrm>
            <a:off x="484200" y="4000680"/>
            <a:ext cx="2014560" cy="2229840"/>
            <a:chOff x="484200" y="4000680"/>
            <a:chExt cx="2014560" cy="2229840"/>
          </a:xfrm>
        </p:grpSpPr>
        <p:sp>
          <p:nvSpPr>
            <p:cNvPr id="210" name="AutoShape 20"/>
            <p:cNvSpPr/>
            <p:nvPr/>
          </p:nvSpPr>
          <p:spPr>
            <a:xfrm flipH="1">
              <a:off x="484200" y="4000680"/>
              <a:ext cx="2014560" cy="2158560"/>
            </a:xfrm>
            <a:prstGeom prst="verticalScroll">
              <a:avLst>
                <a:gd name="adj" fmla="val 12500"/>
              </a:avLst>
            </a:prstGeom>
            <a:solidFill>
              <a:srgbClr val="e6e6ff"/>
            </a:solidFill>
            <a:ln w="9360">
              <a:solidFill>
                <a:srgbClr val="3465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1" name="Picture 21" descr=""/>
            <p:cNvPicPr/>
            <p:nvPr/>
          </p:nvPicPr>
          <p:blipFill>
            <a:blip r:embed="rId13"/>
            <a:stretch/>
          </p:blipFill>
          <p:spPr>
            <a:xfrm>
              <a:off x="1082880" y="4216320"/>
              <a:ext cx="846000" cy="11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22" descr=""/>
            <p:cNvPicPr/>
            <p:nvPr/>
          </p:nvPicPr>
          <p:blipFill>
            <a:blip r:embed="rId14"/>
            <a:stretch/>
          </p:blipFill>
          <p:spPr>
            <a:xfrm>
              <a:off x="736560" y="4525920"/>
              <a:ext cx="675000" cy="96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3" descr=""/>
            <p:cNvPicPr/>
            <p:nvPr/>
          </p:nvPicPr>
          <p:blipFill>
            <a:blip r:embed="rId15"/>
            <a:stretch/>
          </p:blipFill>
          <p:spPr>
            <a:xfrm>
              <a:off x="1157400" y="4786200"/>
              <a:ext cx="666720" cy="96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24" descr=""/>
            <p:cNvPicPr/>
            <p:nvPr/>
          </p:nvPicPr>
          <p:blipFill>
            <a:blip r:embed="rId16"/>
            <a:stretch/>
          </p:blipFill>
          <p:spPr>
            <a:xfrm>
              <a:off x="1549440" y="4505040"/>
              <a:ext cx="69228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Freeform 25"/>
            <p:cNvSpPr/>
            <p:nvPr/>
          </p:nvSpPr>
          <p:spPr>
            <a:xfrm>
              <a:off x="1744920" y="5655960"/>
              <a:ext cx="430200" cy="574560"/>
            </a:xfrm>
            <a:custGeom>
              <a:avLst/>
              <a:gdLst>
                <a:gd name="textAreaLeft" fmla="*/ 82440 w 430200"/>
                <a:gd name="textAreaRight" fmla="*/ 309600 w 430200"/>
                <a:gd name="textAreaTop" fmla="*/ 91800 h 574560"/>
                <a:gd name="textAreaBottom" fmla="*/ 280800 h 574560"/>
              </a:gdLst>
              <a:ahLst/>
              <a:rect l="textAreaLeft" t="textAreaTop" r="textAreaRight" b="textAreaBottom"/>
              <a:pathLst>
                <a:path w="3448" h="4947">
                  <a:moveTo>
                    <a:pt x="1944" y="2928"/>
                  </a:moveTo>
                  <a:cubicBezTo>
                    <a:pt x="1941" y="2982"/>
                    <a:pt x="1938" y="3036"/>
                    <a:pt x="1933" y="3090"/>
                  </a:cubicBezTo>
                  <a:cubicBezTo>
                    <a:pt x="1924" y="3131"/>
                    <a:pt x="1915" y="3172"/>
                    <a:pt x="1905" y="3214"/>
                  </a:cubicBezTo>
                  <a:cubicBezTo>
                    <a:pt x="1891" y="3246"/>
                    <a:pt x="1877" y="3278"/>
                    <a:pt x="1861" y="3312"/>
                  </a:cubicBezTo>
                  <a:cubicBezTo>
                    <a:pt x="1843" y="3340"/>
                    <a:pt x="1825" y="3368"/>
                    <a:pt x="1805" y="3398"/>
                  </a:cubicBezTo>
                  <a:cubicBezTo>
                    <a:pt x="1775" y="3437"/>
                    <a:pt x="1745" y="3476"/>
                    <a:pt x="1715" y="3517"/>
                  </a:cubicBezTo>
                  <a:cubicBezTo>
                    <a:pt x="1685" y="3548"/>
                    <a:pt x="1655" y="3579"/>
                    <a:pt x="1625" y="3612"/>
                  </a:cubicBezTo>
                  <a:cubicBezTo>
                    <a:pt x="1602" y="3646"/>
                    <a:pt x="1579" y="3680"/>
                    <a:pt x="1556" y="3716"/>
                  </a:cubicBezTo>
                  <a:cubicBezTo>
                    <a:pt x="1547" y="3766"/>
                    <a:pt x="1538" y="3816"/>
                    <a:pt x="1529" y="3868"/>
                  </a:cubicBezTo>
                  <a:cubicBezTo>
                    <a:pt x="1532" y="3914"/>
                    <a:pt x="1535" y="3960"/>
                    <a:pt x="1538" y="4008"/>
                  </a:cubicBezTo>
                  <a:cubicBezTo>
                    <a:pt x="1545" y="4052"/>
                    <a:pt x="1552" y="4096"/>
                    <a:pt x="1560" y="4141"/>
                  </a:cubicBezTo>
                  <a:cubicBezTo>
                    <a:pt x="1569" y="4183"/>
                    <a:pt x="1578" y="4225"/>
                    <a:pt x="1587" y="4268"/>
                  </a:cubicBezTo>
                  <a:cubicBezTo>
                    <a:pt x="1595" y="4309"/>
                    <a:pt x="1603" y="4350"/>
                    <a:pt x="1612" y="4393"/>
                  </a:cubicBezTo>
                  <a:cubicBezTo>
                    <a:pt x="1620" y="4412"/>
                    <a:pt x="1628" y="4431"/>
                    <a:pt x="1636" y="4451"/>
                  </a:cubicBezTo>
                  <a:cubicBezTo>
                    <a:pt x="1645" y="4475"/>
                    <a:pt x="1654" y="4499"/>
                    <a:pt x="1664" y="4524"/>
                  </a:cubicBezTo>
                  <a:cubicBezTo>
                    <a:pt x="1671" y="4545"/>
                    <a:pt x="1678" y="4566"/>
                    <a:pt x="1685" y="4587"/>
                  </a:cubicBezTo>
                  <a:cubicBezTo>
                    <a:pt x="1688" y="4596"/>
                    <a:pt x="1691" y="4605"/>
                    <a:pt x="1695" y="4614"/>
                  </a:cubicBezTo>
                  <a:cubicBezTo>
                    <a:pt x="1711" y="4604"/>
                    <a:pt x="1727" y="4594"/>
                    <a:pt x="1745" y="4582"/>
                  </a:cubicBezTo>
                  <a:cubicBezTo>
                    <a:pt x="1765" y="4577"/>
                    <a:pt x="1785" y="4572"/>
                    <a:pt x="1805" y="4565"/>
                  </a:cubicBezTo>
                  <a:cubicBezTo>
                    <a:pt x="1825" y="4563"/>
                    <a:pt x="1845" y="4561"/>
                    <a:pt x="1866" y="4559"/>
                  </a:cubicBezTo>
                  <a:cubicBezTo>
                    <a:pt x="1882" y="4559"/>
                    <a:pt x="1898" y="4559"/>
                    <a:pt x="1916" y="4559"/>
                  </a:cubicBezTo>
                  <a:cubicBezTo>
                    <a:pt x="1935" y="4560"/>
                    <a:pt x="1954" y="4561"/>
                    <a:pt x="1973" y="4563"/>
                  </a:cubicBezTo>
                  <a:cubicBezTo>
                    <a:pt x="1997" y="4566"/>
                    <a:pt x="2021" y="4569"/>
                    <a:pt x="2047" y="4573"/>
                  </a:cubicBezTo>
                  <a:cubicBezTo>
                    <a:pt x="2068" y="4576"/>
                    <a:pt x="2089" y="4579"/>
                    <a:pt x="2110" y="4582"/>
                  </a:cubicBezTo>
                  <a:cubicBezTo>
                    <a:pt x="2119" y="4583"/>
                    <a:pt x="2128" y="4584"/>
                    <a:pt x="2137" y="4587"/>
                  </a:cubicBezTo>
                  <a:cubicBezTo>
                    <a:pt x="2125" y="4570"/>
                    <a:pt x="2113" y="4553"/>
                    <a:pt x="2100" y="4536"/>
                  </a:cubicBezTo>
                  <a:cubicBezTo>
                    <a:pt x="2091" y="4515"/>
                    <a:pt x="2082" y="4494"/>
                    <a:pt x="2071" y="4472"/>
                  </a:cubicBezTo>
                  <a:cubicBezTo>
                    <a:pt x="2063" y="4449"/>
                    <a:pt x="2055" y="4426"/>
                    <a:pt x="2047" y="4403"/>
                  </a:cubicBezTo>
                  <a:cubicBezTo>
                    <a:pt x="2040" y="4382"/>
                    <a:pt x="2033" y="4361"/>
                    <a:pt x="2026" y="4338"/>
                  </a:cubicBezTo>
                  <a:cubicBezTo>
                    <a:pt x="2001" y="4275"/>
                    <a:pt x="1976" y="4212"/>
                    <a:pt x="1951" y="4149"/>
                  </a:cubicBezTo>
                  <a:cubicBezTo>
                    <a:pt x="1941" y="4103"/>
                    <a:pt x="1931" y="4057"/>
                    <a:pt x="1921" y="4009"/>
                  </a:cubicBezTo>
                  <a:cubicBezTo>
                    <a:pt x="1922" y="3975"/>
                    <a:pt x="1923" y="3941"/>
                    <a:pt x="1925" y="3905"/>
                  </a:cubicBezTo>
                  <a:cubicBezTo>
                    <a:pt x="1934" y="3879"/>
                    <a:pt x="1943" y="3853"/>
                    <a:pt x="1954" y="3825"/>
                  </a:cubicBezTo>
                  <a:cubicBezTo>
                    <a:pt x="1969" y="3803"/>
                    <a:pt x="1984" y="3781"/>
                    <a:pt x="1999" y="3757"/>
                  </a:cubicBezTo>
                  <a:cubicBezTo>
                    <a:pt x="2034" y="3705"/>
                    <a:pt x="2069" y="3653"/>
                    <a:pt x="2105" y="3599"/>
                  </a:cubicBezTo>
                  <a:cubicBezTo>
                    <a:pt x="2138" y="3549"/>
                    <a:pt x="2171" y="3499"/>
                    <a:pt x="2206" y="3449"/>
                  </a:cubicBezTo>
                  <a:cubicBezTo>
                    <a:pt x="2232" y="3398"/>
                    <a:pt x="2258" y="3347"/>
                    <a:pt x="2286" y="3294"/>
                  </a:cubicBezTo>
                  <a:cubicBezTo>
                    <a:pt x="2301" y="3237"/>
                    <a:pt x="2316" y="3180"/>
                    <a:pt x="2331" y="3122"/>
                  </a:cubicBezTo>
                  <a:cubicBezTo>
                    <a:pt x="2331" y="3100"/>
                    <a:pt x="2331" y="3078"/>
                    <a:pt x="2331" y="3054"/>
                  </a:cubicBezTo>
                  <a:cubicBezTo>
                    <a:pt x="2331" y="3029"/>
                    <a:pt x="2331" y="3004"/>
                    <a:pt x="2331" y="2979"/>
                  </a:cubicBezTo>
                  <a:cubicBezTo>
                    <a:pt x="2331" y="2953"/>
                    <a:pt x="2331" y="2927"/>
                    <a:pt x="2331" y="2899"/>
                  </a:cubicBezTo>
                  <a:cubicBezTo>
                    <a:pt x="2331" y="2872"/>
                    <a:pt x="2331" y="2845"/>
                    <a:pt x="2331" y="2817"/>
                  </a:cubicBezTo>
                  <a:cubicBezTo>
                    <a:pt x="2324" y="2811"/>
                    <a:pt x="2317" y="2805"/>
                    <a:pt x="2310" y="2797"/>
                  </a:cubicBezTo>
                  <a:cubicBezTo>
                    <a:pt x="2305" y="2791"/>
                    <a:pt x="2300" y="2785"/>
                    <a:pt x="2293" y="2779"/>
                  </a:cubicBezTo>
                  <a:cubicBezTo>
                    <a:pt x="2289" y="2775"/>
                    <a:pt x="2285" y="2771"/>
                    <a:pt x="2280" y="2766"/>
                  </a:cubicBezTo>
                  <a:cubicBezTo>
                    <a:pt x="2279" y="2765"/>
                    <a:pt x="2278" y="2764"/>
                    <a:pt x="2276" y="2762"/>
                  </a:cubicBezTo>
                  <a:cubicBezTo>
                    <a:pt x="2243" y="2770"/>
                    <a:pt x="2210" y="2778"/>
                    <a:pt x="2177" y="2788"/>
                  </a:cubicBezTo>
                  <a:cubicBezTo>
                    <a:pt x="2148" y="2800"/>
                    <a:pt x="2119" y="2812"/>
                    <a:pt x="2088" y="2824"/>
                  </a:cubicBezTo>
                  <a:cubicBezTo>
                    <a:pt x="2062" y="2839"/>
                    <a:pt x="2036" y="2854"/>
                    <a:pt x="2010" y="2870"/>
                  </a:cubicBezTo>
                  <a:cubicBezTo>
                    <a:pt x="1988" y="2889"/>
                    <a:pt x="1966" y="2908"/>
                    <a:pt x="1944" y="2928"/>
                  </a:cubicBezTo>
                  <a:close/>
                  <a:moveTo>
                    <a:pt x="2635" y="2707"/>
                  </a:moveTo>
                  <a:cubicBezTo>
                    <a:pt x="2587" y="2712"/>
                    <a:pt x="2539" y="2717"/>
                    <a:pt x="2491" y="2722"/>
                  </a:cubicBezTo>
                  <a:cubicBezTo>
                    <a:pt x="2467" y="2724"/>
                    <a:pt x="2443" y="2726"/>
                    <a:pt x="2417" y="2730"/>
                  </a:cubicBezTo>
                  <a:cubicBezTo>
                    <a:pt x="2408" y="2731"/>
                    <a:pt x="2399" y="2732"/>
                    <a:pt x="2389" y="2733"/>
                  </a:cubicBezTo>
                  <a:cubicBezTo>
                    <a:pt x="2388" y="2733"/>
                    <a:pt x="2387" y="2733"/>
                    <a:pt x="2386" y="2734"/>
                  </a:cubicBezTo>
                  <a:cubicBezTo>
                    <a:pt x="2378" y="2734"/>
                    <a:pt x="2370" y="2734"/>
                    <a:pt x="2360" y="2734"/>
                  </a:cubicBezTo>
                  <a:cubicBezTo>
                    <a:pt x="2350" y="2734"/>
                    <a:pt x="2340" y="2734"/>
                    <a:pt x="2330" y="2734"/>
                  </a:cubicBezTo>
                  <a:cubicBezTo>
                    <a:pt x="2320" y="2734"/>
                    <a:pt x="2310" y="2734"/>
                    <a:pt x="2300" y="2734"/>
                  </a:cubicBezTo>
                  <a:cubicBezTo>
                    <a:pt x="2292" y="2734"/>
                    <a:pt x="2284" y="2734"/>
                    <a:pt x="2276" y="2734"/>
                  </a:cubicBezTo>
                  <a:cubicBezTo>
                    <a:pt x="2276" y="2735"/>
                    <a:pt x="2276" y="2736"/>
                    <a:pt x="2276" y="2738"/>
                  </a:cubicBezTo>
                  <a:cubicBezTo>
                    <a:pt x="2276" y="2741"/>
                    <a:pt x="2276" y="2744"/>
                    <a:pt x="2276" y="2748"/>
                  </a:cubicBezTo>
                  <a:cubicBezTo>
                    <a:pt x="2276" y="2751"/>
                    <a:pt x="2276" y="2754"/>
                    <a:pt x="2276" y="2757"/>
                  </a:cubicBezTo>
                  <a:cubicBezTo>
                    <a:pt x="2276" y="2758"/>
                    <a:pt x="2276" y="2759"/>
                    <a:pt x="2276" y="2762"/>
                  </a:cubicBezTo>
                  <a:cubicBezTo>
                    <a:pt x="2277" y="2763"/>
                    <a:pt x="2278" y="2764"/>
                    <a:pt x="2280" y="2766"/>
                  </a:cubicBezTo>
                  <a:cubicBezTo>
                    <a:pt x="2284" y="2770"/>
                    <a:pt x="2288" y="2774"/>
                    <a:pt x="2293" y="2779"/>
                  </a:cubicBezTo>
                  <a:cubicBezTo>
                    <a:pt x="2298" y="2785"/>
                    <a:pt x="2303" y="2791"/>
                    <a:pt x="2310" y="2797"/>
                  </a:cubicBezTo>
                  <a:cubicBezTo>
                    <a:pt x="2317" y="2803"/>
                    <a:pt x="2324" y="2809"/>
                    <a:pt x="2331" y="2817"/>
                  </a:cubicBezTo>
                  <a:cubicBezTo>
                    <a:pt x="2349" y="2840"/>
                    <a:pt x="2367" y="2863"/>
                    <a:pt x="2386" y="2888"/>
                  </a:cubicBezTo>
                  <a:cubicBezTo>
                    <a:pt x="2397" y="2918"/>
                    <a:pt x="2408" y="2948"/>
                    <a:pt x="2419" y="2979"/>
                  </a:cubicBezTo>
                  <a:cubicBezTo>
                    <a:pt x="2422" y="3019"/>
                    <a:pt x="2425" y="3059"/>
                    <a:pt x="2428" y="3099"/>
                  </a:cubicBezTo>
                  <a:cubicBezTo>
                    <a:pt x="2422" y="3153"/>
                    <a:pt x="2416" y="3207"/>
                    <a:pt x="2408" y="3263"/>
                  </a:cubicBezTo>
                  <a:cubicBezTo>
                    <a:pt x="2392" y="3335"/>
                    <a:pt x="2376" y="3407"/>
                    <a:pt x="2358" y="3481"/>
                  </a:cubicBezTo>
                  <a:cubicBezTo>
                    <a:pt x="2349" y="3515"/>
                    <a:pt x="2340" y="3549"/>
                    <a:pt x="2329" y="3584"/>
                  </a:cubicBezTo>
                  <a:cubicBezTo>
                    <a:pt x="2317" y="3618"/>
                    <a:pt x="2305" y="3652"/>
                    <a:pt x="2292" y="3688"/>
                  </a:cubicBezTo>
                  <a:cubicBezTo>
                    <a:pt x="2282" y="3722"/>
                    <a:pt x="2272" y="3756"/>
                    <a:pt x="2260" y="3791"/>
                  </a:cubicBezTo>
                  <a:cubicBezTo>
                    <a:pt x="2256" y="3826"/>
                    <a:pt x="2252" y="3861"/>
                    <a:pt x="2247" y="3896"/>
                  </a:cubicBezTo>
                  <a:cubicBezTo>
                    <a:pt x="2252" y="3967"/>
                    <a:pt x="2257" y="4038"/>
                    <a:pt x="2263" y="4110"/>
                  </a:cubicBezTo>
                  <a:cubicBezTo>
                    <a:pt x="2280" y="4172"/>
                    <a:pt x="2297" y="4234"/>
                    <a:pt x="2315" y="4297"/>
                  </a:cubicBezTo>
                  <a:cubicBezTo>
                    <a:pt x="2344" y="4355"/>
                    <a:pt x="2373" y="4413"/>
                    <a:pt x="2402" y="4472"/>
                  </a:cubicBezTo>
                  <a:cubicBezTo>
                    <a:pt x="2443" y="4530"/>
                    <a:pt x="2484" y="4588"/>
                    <a:pt x="2527" y="4647"/>
                  </a:cubicBezTo>
                  <a:cubicBezTo>
                    <a:pt x="2581" y="4709"/>
                    <a:pt x="2635" y="4771"/>
                    <a:pt x="2690" y="4835"/>
                  </a:cubicBezTo>
                  <a:cubicBezTo>
                    <a:pt x="2701" y="4840"/>
                    <a:pt x="2712" y="4845"/>
                    <a:pt x="2723" y="4852"/>
                  </a:cubicBezTo>
                  <a:cubicBezTo>
                    <a:pt x="2738" y="4864"/>
                    <a:pt x="2753" y="4876"/>
                    <a:pt x="2770" y="4890"/>
                  </a:cubicBezTo>
                  <a:cubicBezTo>
                    <a:pt x="2783" y="4902"/>
                    <a:pt x="2796" y="4914"/>
                    <a:pt x="2811" y="4928"/>
                  </a:cubicBezTo>
                  <a:cubicBezTo>
                    <a:pt x="2817" y="4934"/>
                    <a:pt x="2823" y="4940"/>
                    <a:pt x="2829" y="4946"/>
                  </a:cubicBezTo>
                  <a:cubicBezTo>
                    <a:pt x="2852" y="4925"/>
                    <a:pt x="2875" y="4904"/>
                    <a:pt x="2899" y="4881"/>
                  </a:cubicBezTo>
                  <a:cubicBezTo>
                    <a:pt x="2927" y="4869"/>
                    <a:pt x="2955" y="4857"/>
                    <a:pt x="2983" y="4845"/>
                  </a:cubicBezTo>
                  <a:cubicBezTo>
                    <a:pt x="3013" y="4839"/>
                    <a:pt x="3043" y="4833"/>
                    <a:pt x="3073" y="4825"/>
                  </a:cubicBezTo>
                  <a:cubicBezTo>
                    <a:pt x="3102" y="4820"/>
                    <a:pt x="3131" y="4815"/>
                    <a:pt x="3161" y="4808"/>
                  </a:cubicBezTo>
                  <a:cubicBezTo>
                    <a:pt x="3167" y="4808"/>
                    <a:pt x="3173" y="4808"/>
                    <a:pt x="3180" y="4808"/>
                  </a:cubicBezTo>
                  <a:cubicBezTo>
                    <a:pt x="3186" y="4809"/>
                    <a:pt x="3192" y="4810"/>
                    <a:pt x="3198" y="4811"/>
                  </a:cubicBezTo>
                  <a:cubicBezTo>
                    <a:pt x="3202" y="4813"/>
                    <a:pt x="3206" y="4815"/>
                    <a:pt x="3210" y="4819"/>
                  </a:cubicBezTo>
                  <a:cubicBezTo>
                    <a:pt x="3211" y="4824"/>
                    <a:pt x="3212" y="4829"/>
                    <a:pt x="3215" y="4835"/>
                  </a:cubicBezTo>
                  <a:cubicBezTo>
                    <a:pt x="3178" y="4809"/>
                    <a:pt x="3141" y="4783"/>
                    <a:pt x="3104" y="4757"/>
                  </a:cubicBezTo>
                  <a:cubicBezTo>
                    <a:pt x="3076" y="4734"/>
                    <a:pt x="3048" y="4711"/>
                    <a:pt x="3018" y="4686"/>
                  </a:cubicBezTo>
                  <a:cubicBezTo>
                    <a:pt x="2995" y="4665"/>
                    <a:pt x="2972" y="4644"/>
                    <a:pt x="2947" y="4621"/>
                  </a:cubicBezTo>
                  <a:cubicBezTo>
                    <a:pt x="2926" y="4601"/>
                    <a:pt x="2905" y="4581"/>
                    <a:pt x="2884" y="4559"/>
                  </a:cubicBezTo>
                  <a:cubicBezTo>
                    <a:pt x="2844" y="4512"/>
                    <a:pt x="2804" y="4465"/>
                    <a:pt x="2762" y="4416"/>
                  </a:cubicBezTo>
                  <a:cubicBezTo>
                    <a:pt x="2731" y="4370"/>
                    <a:pt x="2700" y="4324"/>
                    <a:pt x="2668" y="4277"/>
                  </a:cubicBezTo>
                  <a:cubicBezTo>
                    <a:pt x="2649" y="4226"/>
                    <a:pt x="2630" y="4175"/>
                    <a:pt x="2610" y="4122"/>
                  </a:cubicBezTo>
                  <a:cubicBezTo>
                    <a:pt x="2606" y="4060"/>
                    <a:pt x="2602" y="3998"/>
                    <a:pt x="2596" y="3936"/>
                  </a:cubicBezTo>
                  <a:cubicBezTo>
                    <a:pt x="2609" y="3858"/>
                    <a:pt x="2622" y="3780"/>
                    <a:pt x="2635" y="3702"/>
                  </a:cubicBezTo>
                  <a:cubicBezTo>
                    <a:pt x="2654" y="3628"/>
                    <a:pt x="2673" y="3554"/>
                    <a:pt x="2694" y="3480"/>
                  </a:cubicBezTo>
                  <a:cubicBezTo>
                    <a:pt x="2709" y="3423"/>
                    <a:pt x="2724" y="3366"/>
                    <a:pt x="2741" y="3307"/>
                  </a:cubicBezTo>
                  <a:cubicBezTo>
                    <a:pt x="2751" y="3262"/>
                    <a:pt x="2761" y="3217"/>
                    <a:pt x="2773" y="3170"/>
                  </a:cubicBezTo>
                  <a:cubicBezTo>
                    <a:pt x="2779" y="3132"/>
                    <a:pt x="2785" y="3094"/>
                    <a:pt x="2793" y="3056"/>
                  </a:cubicBezTo>
                  <a:cubicBezTo>
                    <a:pt x="2795" y="3023"/>
                    <a:pt x="2797" y="2990"/>
                    <a:pt x="2800" y="2955"/>
                  </a:cubicBezTo>
                  <a:cubicBezTo>
                    <a:pt x="2798" y="2929"/>
                    <a:pt x="2796" y="2903"/>
                    <a:pt x="2794" y="2877"/>
                  </a:cubicBezTo>
                  <a:cubicBezTo>
                    <a:pt x="2789" y="2855"/>
                    <a:pt x="2784" y="2833"/>
                    <a:pt x="2779" y="2810"/>
                  </a:cubicBezTo>
                  <a:cubicBezTo>
                    <a:pt x="2771" y="2791"/>
                    <a:pt x="2763" y="2772"/>
                    <a:pt x="2754" y="2753"/>
                  </a:cubicBezTo>
                  <a:cubicBezTo>
                    <a:pt x="2742" y="2738"/>
                    <a:pt x="2730" y="2723"/>
                    <a:pt x="2718" y="2707"/>
                  </a:cubicBezTo>
                  <a:cubicBezTo>
                    <a:pt x="2711" y="2707"/>
                    <a:pt x="2704" y="2707"/>
                    <a:pt x="2697" y="2707"/>
                  </a:cubicBezTo>
                  <a:cubicBezTo>
                    <a:pt x="2690" y="2707"/>
                    <a:pt x="2683" y="2707"/>
                    <a:pt x="2676" y="2707"/>
                  </a:cubicBezTo>
                  <a:cubicBezTo>
                    <a:pt x="2669" y="2707"/>
                    <a:pt x="2662" y="2707"/>
                    <a:pt x="2655" y="2707"/>
                  </a:cubicBezTo>
                  <a:cubicBezTo>
                    <a:pt x="2649" y="2707"/>
                    <a:pt x="2643" y="2707"/>
                    <a:pt x="2635" y="2707"/>
                  </a:cubicBezTo>
                  <a:close/>
                  <a:moveTo>
                    <a:pt x="3298" y="1325"/>
                  </a:moveTo>
                  <a:cubicBezTo>
                    <a:pt x="3285" y="1318"/>
                    <a:pt x="3272" y="1311"/>
                    <a:pt x="3257" y="1304"/>
                  </a:cubicBezTo>
                  <a:cubicBezTo>
                    <a:pt x="3245" y="1298"/>
                    <a:pt x="3233" y="1292"/>
                    <a:pt x="3219" y="1286"/>
                  </a:cubicBezTo>
                  <a:cubicBezTo>
                    <a:pt x="3208" y="1282"/>
                    <a:pt x="3197" y="1278"/>
                    <a:pt x="3185" y="1273"/>
                  </a:cubicBezTo>
                  <a:cubicBezTo>
                    <a:pt x="3177" y="1272"/>
                    <a:pt x="3169" y="1271"/>
                    <a:pt x="3160" y="1269"/>
                  </a:cubicBezTo>
                  <a:cubicBezTo>
                    <a:pt x="3118" y="1251"/>
                    <a:pt x="3076" y="1233"/>
                    <a:pt x="3033" y="1215"/>
                  </a:cubicBezTo>
                  <a:cubicBezTo>
                    <a:pt x="2994" y="1187"/>
                    <a:pt x="2955" y="1159"/>
                    <a:pt x="2914" y="1131"/>
                  </a:cubicBezTo>
                  <a:cubicBezTo>
                    <a:pt x="2884" y="1089"/>
                    <a:pt x="2854" y="1047"/>
                    <a:pt x="2822" y="1005"/>
                  </a:cubicBezTo>
                  <a:cubicBezTo>
                    <a:pt x="2806" y="946"/>
                    <a:pt x="2790" y="887"/>
                    <a:pt x="2774" y="827"/>
                  </a:cubicBezTo>
                  <a:cubicBezTo>
                    <a:pt x="2774" y="774"/>
                    <a:pt x="2774" y="721"/>
                    <a:pt x="2774" y="667"/>
                  </a:cubicBezTo>
                  <a:cubicBezTo>
                    <a:pt x="2774" y="640"/>
                    <a:pt x="2774" y="613"/>
                    <a:pt x="2774" y="585"/>
                  </a:cubicBezTo>
                  <a:cubicBezTo>
                    <a:pt x="2774" y="575"/>
                    <a:pt x="2774" y="565"/>
                    <a:pt x="2774" y="555"/>
                  </a:cubicBezTo>
                  <a:cubicBezTo>
                    <a:pt x="2774" y="554"/>
                    <a:pt x="2774" y="553"/>
                    <a:pt x="2774" y="551"/>
                  </a:cubicBezTo>
                  <a:cubicBezTo>
                    <a:pt x="2755" y="487"/>
                    <a:pt x="2736" y="423"/>
                    <a:pt x="2717" y="358"/>
                  </a:cubicBezTo>
                  <a:cubicBezTo>
                    <a:pt x="2678" y="318"/>
                    <a:pt x="2639" y="278"/>
                    <a:pt x="2600" y="236"/>
                  </a:cubicBezTo>
                  <a:cubicBezTo>
                    <a:pt x="2544" y="218"/>
                    <a:pt x="2488" y="200"/>
                    <a:pt x="2431" y="181"/>
                  </a:cubicBezTo>
                  <a:cubicBezTo>
                    <a:pt x="2361" y="184"/>
                    <a:pt x="2291" y="187"/>
                    <a:pt x="2221" y="192"/>
                  </a:cubicBezTo>
                  <a:cubicBezTo>
                    <a:pt x="2173" y="202"/>
                    <a:pt x="2125" y="212"/>
                    <a:pt x="2076" y="223"/>
                  </a:cubicBezTo>
                  <a:cubicBezTo>
                    <a:pt x="2052" y="228"/>
                    <a:pt x="2028" y="233"/>
                    <a:pt x="2002" y="239"/>
                  </a:cubicBezTo>
                  <a:cubicBezTo>
                    <a:pt x="1993" y="241"/>
                    <a:pt x="1984" y="243"/>
                    <a:pt x="1974" y="245"/>
                  </a:cubicBezTo>
                  <a:cubicBezTo>
                    <a:pt x="1973" y="245"/>
                    <a:pt x="1972" y="245"/>
                    <a:pt x="1971" y="246"/>
                  </a:cubicBezTo>
                  <a:cubicBezTo>
                    <a:pt x="1937" y="249"/>
                    <a:pt x="1903" y="252"/>
                    <a:pt x="1868" y="255"/>
                  </a:cubicBezTo>
                  <a:cubicBezTo>
                    <a:pt x="1839" y="252"/>
                    <a:pt x="1810" y="249"/>
                    <a:pt x="1779" y="245"/>
                  </a:cubicBezTo>
                  <a:cubicBezTo>
                    <a:pt x="1747" y="234"/>
                    <a:pt x="1715" y="223"/>
                    <a:pt x="1683" y="212"/>
                  </a:cubicBezTo>
                  <a:cubicBezTo>
                    <a:pt x="1642" y="191"/>
                    <a:pt x="1601" y="170"/>
                    <a:pt x="1560" y="149"/>
                  </a:cubicBezTo>
                  <a:cubicBezTo>
                    <a:pt x="1504" y="117"/>
                    <a:pt x="1448" y="85"/>
                    <a:pt x="1391" y="53"/>
                  </a:cubicBezTo>
                  <a:cubicBezTo>
                    <a:pt x="1353" y="36"/>
                    <a:pt x="1315" y="19"/>
                    <a:pt x="1275" y="0"/>
                  </a:cubicBezTo>
                  <a:cubicBezTo>
                    <a:pt x="1233" y="2"/>
                    <a:pt x="1191" y="4"/>
                    <a:pt x="1149" y="8"/>
                  </a:cubicBezTo>
                  <a:cubicBezTo>
                    <a:pt x="1111" y="29"/>
                    <a:pt x="1073" y="50"/>
                    <a:pt x="1033" y="72"/>
                  </a:cubicBezTo>
                  <a:cubicBezTo>
                    <a:pt x="1005" y="112"/>
                    <a:pt x="977" y="152"/>
                    <a:pt x="949" y="192"/>
                  </a:cubicBezTo>
                  <a:cubicBezTo>
                    <a:pt x="921" y="257"/>
                    <a:pt x="893" y="322"/>
                    <a:pt x="863" y="387"/>
                  </a:cubicBezTo>
                  <a:cubicBezTo>
                    <a:pt x="840" y="431"/>
                    <a:pt x="817" y="475"/>
                    <a:pt x="793" y="521"/>
                  </a:cubicBezTo>
                  <a:cubicBezTo>
                    <a:pt x="769" y="551"/>
                    <a:pt x="745" y="581"/>
                    <a:pt x="721" y="613"/>
                  </a:cubicBezTo>
                  <a:cubicBezTo>
                    <a:pt x="691" y="635"/>
                    <a:pt x="661" y="657"/>
                    <a:pt x="631" y="681"/>
                  </a:cubicBezTo>
                  <a:cubicBezTo>
                    <a:pt x="590" y="702"/>
                    <a:pt x="549" y="723"/>
                    <a:pt x="506" y="745"/>
                  </a:cubicBezTo>
                  <a:cubicBezTo>
                    <a:pt x="464" y="766"/>
                    <a:pt x="422" y="787"/>
                    <a:pt x="378" y="808"/>
                  </a:cubicBezTo>
                  <a:cubicBezTo>
                    <a:pt x="356" y="819"/>
                    <a:pt x="334" y="830"/>
                    <a:pt x="312" y="841"/>
                  </a:cubicBezTo>
                  <a:cubicBezTo>
                    <a:pt x="304" y="845"/>
                    <a:pt x="296" y="849"/>
                    <a:pt x="288" y="853"/>
                  </a:cubicBezTo>
                  <a:cubicBezTo>
                    <a:pt x="287" y="853"/>
                    <a:pt x="286" y="853"/>
                    <a:pt x="285" y="855"/>
                  </a:cubicBezTo>
                  <a:cubicBezTo>
                    <a:pt x="244" y="891"/>
                    <a:pt x="203" y="927"/>
                    <a:pt x="161" y="964"/>
                  </a:cubicBezTo>
                  <a:cubicBezTo>
                    <a:pt x="137" y="1005"/>
                    <a:pt x="113" y="1046"/>
                    <a:pt x="88" y="1089"/>
                  </a:cubicBezTo>
                  <a:cubicBezTo>
                    <a:pt x="83" y="1137"/>
                    <a:pt x="78" y="1185"/>
                    <a:pt x="71" y="1235"/>
                  </a:cubicBezTo>
                  <a:cubicBezTo>
                    <a:pt x="87" y="1292"/>
                    <a:pt x="103" y="1349"/>
                    <a:pt x="120" y="1408"/>
                  </a:cubicBezTo>
                  <a:cubicBezTo>
                    <a:pt x="133" y="1456"/>
                    <a:pt x="146" y="1504"/>
                    <a:pt x="161" y="1554"/>
                  </a:cubicBezTo>
                  <a:cubicBezTo>
                    <a:pt x="162" y="1611"/>
                    <a:pt x="163" y="1668"/>
                    <a:pt x="164" y="1725"/>
                  </a:cubicBezTo>
                  <a:cubicBezTo>
                    <a:pt x="153" y="1782"/>
                    <a:pt x="142" y="1839"/>
                    <a:pt x="130" y="1897"/>
                  </a:cubicBezTo>
                  <a:cubicBezTo>
                    <a:pt x="108" y="1945"/>
                    <a:pt x="86" y="1993"/>
                    <a:pt x="64" y="2043"/>
                  </a:cubicBezTo>
                  <a:cubicBezTo>
                    <a:pt x="43" y="2092"/>
                    <a:pt x="22" y="2141"/>
                    <a:pt x="0" y="2191"/>
                  </a:cubicBezTo>
                  <a:cubicBezTo>
                    <a:pt x="2" y="2238"/>
                    <a:pt x="4" y="2285"/>
                    <a:pt x="8" y="2333"/>
                  </a:cubicBezTo>
                  <a:cubicBezTo>
                    <a:pt x="31" y="2373"/>
                    <a:pt x="54" y="2413"/>
                    <a:pt x="79" y="2455"/>
                  </a:cubicBezTo>
                  <a:cubicBezTo>
                    <a:pt x="120" y="2484"/>
                    <a:pt x="161" y="2513"/>
                    <a:pt x="202" y="2542"/>
                  </a:cubicBezTo>
                  <a:cubicBezTo>
                    <a:pt x="213" y="2543"/>
                    <a:pt x="224" y="2544"/>
                    <a:pt x="236" y="2546"/>
                  </a:cubicBezTo>
                  <a:cubicBezTo>
                    <a:pt x="254" y="2549"/>
                    <a:pt x="272" y="2552"/>
                    <a:pt x="292" y="2555"/>
                  </a:cubicBezTo>
                  <a:cubicBezTo>
                    <a:pt x="313" y="2558"/>
                    <a:pt x="334" y="2561"/>
                    <a:pt x="357" y="2564"/>
                  </a:cubicBezTo>
                  <a:cubicBezTo>
                    <a:pt x="379" y="2565"/>
                    <a:pt x="401" y="2566"/>
                    <a:pt x="423" y="2569"/>
                  </a:cubicBezTo>
                  <a:cubicBezTo>
                    <a:pt x="462" y="2573"/>
                    <a:pt x="501" y="2577"/>
                    <a:pt x="541" y="2581"/>
                  </a:cubicBezTo>
                  <a:cubicBezTo>
                    <a:pt x="588" y="2595"/>
                    <a:pt x="635" y="2609"/>
                    <a:pt x="682" y="2624"/>
                  </a:cubicBezTo>
                  <a:cubicBezTo>
                    <a:pt x="734" y="2652"/>
                    <a:pt x="786" y="2680"/>
                    <a:pt x="839" y="2709"/>
                  </a:cubicBezTo>
                  <a:cubicBezTo>
                    <a:pt x="894" y="2754"/>
                    <a:pt x="949" y="2799"/>
                    <a:pt x="1004" y="2846"/>
                  </a:cubicBezTo>
                  <a:cubicBezTo>
                    <a:pt x="1018" y="2865"/>
                    <a:pt x="1032" y="2884"/>
                    <a:pt x="1046" y="2904"/>
                  </a:cubicBezTo>
                  <a:cubicBezTo>
                    <a:pt x="1061" y="2924"/>
                    <a:pt x="1076" y="2944"/>
                    <a:pt x="1093" y="2966"/>
                  </a:cubicBezTo>
                  <a:cubicBezTo>
                    <a:pt x="1112" y="2991"/>
                    <a:pt x="1131" y="3016"/>
                    <a:pt x="1151" y="3043"/>
                  </a:cubicBezTo>
                  <a:cubicBezTo>
                    <a:pt x="1175" y="3078"/>
                    <a:pt x="1199" y="3113"/>
                    <a:pt x="1225" y="3149"/>
                  </a:cubicBezTo>
                  <a:cubicBezTo>
                    <a:pt x="1262" y="3173"/>
                    <a:pt x="1299" y="3197"/>
                    <a:pt x="1338" y="3222"/>
                  </a:cubicBezTo>
                  <a:cubicBezTo>
                    <a:pt x="1387" y="3227"/>
                    <a:pt x="1436" y="3232"/>
                    <a:pt x="1487" y="3239"/>
                  </a:cubicBezTo>
                  <a:cubicBezTo>
                    <a:pt x="1537" y="3227"/>
                    <a:pt x="1587" y="3215"/>
                    <a:pt x="1637" y="3203"/>
                  </a:cubicBezTo>
                  <a:cubicBezTo>
                    <a:pt x="1674" y="3176"/>
                    <a:pt x="1711" y="3149"/>
                    <a:pt x="1750" y="3122"/>
                  </a:cubicBezTo>
                  <a:cubicBezTo>
                    <a:pt x="1758" y="3114"/>
                    <a:pt x="1766" y="3106"/>
                    <a:pt x="1775" y="3096"/>
                  </a:cubicBezTo>
                  <a:cubicBezTo>
                    <a:pt x="1786" y="3085"/>
                    <a:pt x="1797" y="3074"/>
                    <a:pt x="1809" y="3063"/>
                  </a:cubicBezTo>
                  <a:cubicBezTo>
                    <a:pt x="1821" y="3050"/>
                    <a:pt x="1833" y="3037"/>
                    <a:pt x="1847" y="3024"/>
                  </a:cubicBezTo>
                  <a:cubicBezTo>
                    <a:pt x="1861" y="3011"/>
                    <a:pt x="1875" y="2998"/>
                    <a:pt x="1889" y="2984"/>
                  </a:cubicBezTo>
                  <a:cubicBezTo>
                    <a:pt x="1911" y="2965"/>
                    <a:pt x="1933" y="2946"/>
                    <a:pt x="1955" y="2926"/>
                  </a:cubicBezTo>
                  <a:cubicBezTo>
                    <a:pt x="1981" y="2911"/>
                    <a:pt x="2007" y="2896"/>
                    <a:pt x="2033" y="2880"/>
                  </a:cubicBezTo>
                  <a:cubicBezTo>
                    <a:pt x="2062" y="2868"/>
                    <a:pt x="2091" y="2856"/>
                    <a:pt x="2122" y="2844"/>
                  </a:cubicBezTo>
                  <a:cubicBezTo>
                    <a:pt x="2155" y="2836"/>
                    <a:pt x="2188" y="2828"/>
                    <a:pt x="2221" y="2818"/>
                  </a:cubicBezTo>
                  <a:cubicBezTo>
                    <a:pt x="2221" y="2817"/>
                    <a:pt x="2221" y="2816"/>
                    <a:pt x="2221" y="2813"/>
                  </a:cubicBezTo>
                  <a:cubicBezTo>
                    <a:pt x="2221" y="2810"/>
                    <a:pt x="2221" y="2807"/>
                    <a:pt x="2221" y="2804"/>
                  </a:cubicBezTo>
                  <a:cubicBezTo>
                    <a:pt x="2221" y="2801"/>
                    <a:pt x="2221" y="2798"/>
                    <a:pt x="2221" y="2794"/>
                  </a:cubicBezTo>
                  <a:cubicBezTo>
                    <a:pt x="2221" y="2793"/>
                    <a:pt x="2221" y="2792"/>
                    <a:pt x="2221" y="2790"/>
                  </a:cubicBezTo>
                  <a:cubicBezTo>
                    <a:pt x="2229" y="2790"/>
                    <a:pt x="2237" y="2790"/>
                    <a:pt x="2245" y="2790"/>
                  </a:cubicBezTo>
                  <a:cubicBezTo>
                    <a:pt x="2255" y="2790"/>
                    <a:pt x="2265" y="2790"/>
                    <a:pt x="2275" y="2790"/>
                  </a:cubicBezTo>
                  <a:cubicBezTo>
                    <a:pt x="2285" y="2790"/>
                    <a:pt x="2295" y="2790"/>
                    <a:pt x="2305" y="2790"/>
                  </a:cubicBezTo>
                  <a:cubicBezTo>
                    <a:pt x="2313" y="2790"/>
                    <a:pt x="2321" y="2790"/>
                    <a:pt x="2331" y="2790"/>
                  </a:cubicBezTo>
                  <a:cubicBezTo>
                    <a:pt x="2378" y="2785"/>
                    <a:pt x="2425" y="2780"/>
                    <a:pt x="2474" y="2774"/>
                  </a:cubicBezTo>
                  <a:cubicBezTo>
                    <a:pt x="2498" y="2772"/>
                    <a:pt x="2522" y="2770"/>
                    <a:pt x="2548" y="2766"/>
                  </a:cubicBezTo>
                  <a:cubicBezTo>
                    <a:pt x="2557" y="2765"/>
                    <a:pt x="2566" y="2764"/>
                    <a:pt x="2576" y="2763"/>
                  </a:cubicBezTo>
                  <a:cubicBezTo>
                    <a:pt x="2577" y="2763"/>
                    <a:pt x="2578" y="2763"/>
                    <a:pt x="2580" y="2763"/>
                  </a:cubicBezTo>
                  <a:cubicBezTo>
                    <a:pt x="2586" y="2763"/>
                    <a:pt x="2592" y="2763"/>
                    <a:pt x="2600" y="2763"/>
                  </a:cubicBezTo>
                  <a:cubicBezTo>
                    <a:pt x="2607" y="2763"/>
                    <a:pt x="2614" y="2763"/>
                    <a:pt x="2621" y="2763"/>
                  </a:cubicBezTo>
                  <a:cubicBezTo>
                    <a:pt x="2628" y="2763"/>
                    <a:pt x="2635" y="2763"/>
                    <a:pt x="2642" y="2763"/>
                  </a:cubicBezTo>
                  <a:cubicBezTo>
                    <a:pt x="2649" y="2763"/>
                    <a:pt x="2656" y="2763"/>
                    <a:pt x="2663" y="2763"/>
                  </a:cubicBezTo>
                  <a:cubicBezTo>
                    <a:pt x="2668" y="2763"/>
                    <a:pt x="2673" y="2763"/>
                    <a:pt x="2679" y="2763"/>
                  </a:cubicBezTo>
                  <a:cubicBezTo>
                    <a:pt x="2682" y="2763"/>
                    <a:pt x="2685" y="2763"/>
                    <a:pt x="2690" y="2763"/>
                  </a:cubicBezTo>
                  <a:cubicBezTo>
                    <a:pt x="2693" y="2763"/>
                    <a:pt x="2696" y="2763"/>
                    <a:pt x="2701" y="2763"/>
                  </a:cubicBezTo>
                  <a:cubicBezTo>
                    <a:pt x="2706" y="2763"/>
                    <a:pt x="2711" y="2763"/>
                    <a:pt x="2718" y="2763"/>
                  </a:cubicBezTo>
                  <a:cubicBezTo>
                    <a:pt x="2761" y="2738"/>
                    <a:pt x="2804" y="2713"/>
                    <a:pt x="2847" y="2686"/>
                  </a:cubicBezTo>
                  <a:cubicBezTo>
                    <a:pt x="2878" y="2654"/>
                    <a:pt x="2909" y="2622"/>
                    <a:pt x="2942" y="2590"/>
                  </a:cubicBezTo>
                  <a:cubicBezTo>
                    <a:pt x="2961" y="2554"/>
                    <a:pt x="2980" y="2518"/>
                    <a:pt x="3001" y="2482"/>
                  </a:cubicBezTo>
                  <a:cubicBezTo>
                    <a:pt x="3008" y="2447"/>
                    <a:pt x="3015" y="2412"/>
                    <a:pt x="3022" y="2375"/>
                  </a:cubicBezTo>
                  <a:cubicBezTo>
                    <a:pt x="3027" y="2310"/>
                    <a:pt x="3032" y="2245"/>
                    <a:pt x="3038" y="2180"/>
                  </a:cubicBezTo>
                  <a:cubicBezTo>
                    <a:pt x="3062" y="2134"/>
                    <a:pt x="3086" y="2088"/>
                    <a:pt x="3111" y="2040"/>
                  </a:cubicBezTo>
                  <a:cubicBezTo>
                    <a:pt x="3146" y="2006"/>
                    <a:pt x="3181" y="1972"/>
                    <a:pt x="3216" y="1936"/>
                  </a:cubicBezTo>
                  <a:cubicBezTo>
                    <a:pt x="3253" y="1908"/>
                    <a:pt x="3290" y="1880"/>
                    <a:pt x="3327" y="1850"/>
                  </a:cubicBezTo>
                  <a:cubicBezTo>
                    <a:pt x="3357" y="1809"/>
                    <a:pt x="3387" y="1768"/>
                    <a:pt x="3419" y="1725"/>
                  </a:cubicBezTo>
                  <a:cubicBezTo>
                    <a:pt x="3428" y="1676"/>
                    <a:pt x="3437" y="1627"/>
                    <a:pt x="3447" y="1577"/>
                  </a:cubicBezTo>
                  <a:cubicBezTo>
                    <a:pt x="3434" y="1530"/>
                    <a:pt x="3421" y="1483"/>
                    <a:pt x="3407" y="1434"/>
                  </a:cubicBezTo>
                  <a:cubicBezTo>
                    <a:pt x="3371" y="1398"/>
                    <a:pt x="3335" y="1362"/>
                    <a:pt x="3298" y="1325"/>
                  </a:cubicBezTo>
                  <a:close/>
                  <a:moveTo>
                    <a:pt x="1788" y="2817"/>
                  </a:moveTo>
                  <a:cubicBezTo>
                    <a:pt x="1678" y="2823"/>
                    <a:pt x="1568" y="2829"/>
                    <a:pt x="1458" y="2837"/>
                  </a:cubicBezTo>
                  <a:cubicBezTo>
                    <a:pt x="1354" y="2814"/>
                    <a:pt x="1250" y="2791"/>
                    <a:pt x="1145" y="2767"/>
                  </a:cubicBezTo>
                  <a:cubicBezTo>
                    <a:pt x="1051" y="2718"/>
                    <a:pt x="957" y="2669"/>
                    <a:pt x="862" y="2619"/>
                  </a:cubicBezTo>
                  <a:cubicBezTo>
                    <a:pt x="783" y="2548"/>
                    <a:pt x="704" y="2477"/>
                    <a:pt x="625" y="2405"/>
                  </a:cubicBezTo>
                  <a:cubicBezTo>
                    <a:pt x="567" y="2315"/>
                    <a:pt x="509" y="2225"/>
                    <a:pt x="449" y="2134"/>
                  </a:cubicBezTo>
                  <a:cubicBezTo>
                    <a:pt x="417" y="2030"/>
                    <a:pt x="385" y="1926"/>
                    <a:pt x="351" y="1821"/>
                  </a:cubicBezTo>
                  <a:cubicBezTo>
                    <a:pt x="348" y="1708"/>
                    <a:pt x="345" y="1595"/>
                    <a:pt x="340" y="1482"/>
                  </a:cubicBezTo>
                  <a:cubicBezTo>
                    <a:pt x="364" y="1377"/>
                    <a:pt x="388" y="1272"/>
                    <a:pt x="413" y="1165"/>
                  </a:cubicBezTo>
                  <a:cubicBezTo>
                    <a:pt x="462" y="1072"/>
                    <a:pt x="511" y="979"/>
                    <a:pt x="561" y="884"/>
                  </a:cubicBezTo>
                  <a:cubicBezTo>
                    <a:pt x="632" y="807"/>
                    <a:pt x="703" y="730"/>
                    <a:pt x="776" y="651"/>
                  </a:cubicBezTo>
                  <a:cubicBezTo>
                    <a:pt x="867" y="594"/>
                    <a:pt x="958" y="537"/>
                    <a:pt x="1049" y="480"/>
                  </a:cubicBezTo>
                  <a:cubicBezTo>
                    <a:pt x="1157" y="448"/>
                    <a:pt x="1265" y="416"/>
                    <a:pt x="1373" y="383"/>
                  </a:cubicBezTo>
                  <a:cubicBezTo>
                    <a:pt x="1482" y="380"/>
                    <a:pt x="1591" y="377"/>
                    <a:pt x="1700" y="372"/>
                  </a:cubicBezTo>
                  <a:cubicBezTo>
                    <a:pt x="1803" y="396"/>
                    <a:pt x="1906" y="420"/>
                    <a:pt x="2010" y="444"/>
                  </a:cubicBezTo>
                  <a:cubicBezTo>
                    <a:pt x="2103" y="492"/>
                    <a:pt x="2196" y="540"/>
                    <a:pt x="2289" y="590"/>
                  </a:cubicBezTo>
                  <a:cubicBezTo>
                    <a:pt x="2367" y="660"/>
                    <a:pt x="2445" y="730"/>
                    <a:pt x="2524" y="801"/>
                  </a:cubicBezTo>
                  <a:cubicBezTo>
                    <a:pt x="2583" y="889"/>
                    <a:pt x="2642" y="977"/>
                    <a:pt x="2702" y="1067"/>
                  </a:cubicBezTo>
                  <a:cubicBezTo>
                    <a:pt x="2738" y="1171"/>
                    <a:pt x="2774" y="1275"/>
                    <a:pt x="2811" y="1379"/>
                  </a:cubicBezTo>
                  <a:cubicBezTo>
                    <a:pt x="2813" y="1492"/>
                    <a:pt x="2815" y="1605"/>
                    <a:pt x="2819" y="1718"/>
                  </a:cubicBezTo>
                  <a:cubicBezTo>
                    <a:pt x="2794" y="1823"/>
                    <a:pt x="2769" y="1928"/>
                    <a:pt x="2742" y="2034"/>
                  </a:cubicBezTo>
                  <a:cubicBezTo>
                    <a:pt x="2692" y="2127"/>
                    <a:pt x="2642" y="2220"/>
                    <a:pt x="2590" y="2315"/>
                  </a:cubicBezTo>
                  <a:cubicBezTo>
                    <a:pt x="2518" y="2392"/>
                    <a:pt x="2446" y="2469"/>
                    <a:pt x="2373" y="2548"/>
                  </a:cubicBezTo>
                  <a:cubicBezTo>
                    <a:pt x="2283" y="2605"/>
                    <a:pt x="2193" y="2662"/>
                    <a:pt x="2102" y="2719"/>
                  </a:cubicBezTo>
                  <a:cubicBezTo>
                    <a:pt x="1998" y="2751"/>
                    <a:pt x="1894" y="2783"/>
                    <a:pt x="1788" y="2817"/>
                  </a:cubicBez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6" name="AutoShape 17"/>
          <p:cNvSpPr/>
          <p:nvPr/>
        </p:nvSpPr>
        <p:spPr>
          <a:xfrm>
            <a:off x="7535880" y="446040"/>
            <a:ext cx="3720960" cy="287964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Проект Закону Украї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«П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ро внесення змін до деяки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законодавчих актів Україн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щодо земельних ділянок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багатоквартирних будинкі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№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3576 від 03.12.2015</a:t>
            </a: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11:08:07Z</dcterms:created>
  <dc:creator>VP</dc:creator>
  <dc:description/>
  <dc:language>en-US</dc:language>
  <cp:lastModifiedBy>VP</cp:lastModifiedBy>
  <dcterms:modified xsi:type="dcterms:W3CDTF">2016-04-02T11:34:44Z</dcterms:modified>
  <cp:revision>17</cp:revision>
  <dc:subject/>
  <dc:title>Відносини власності у багатоквартирному будинку  Форми управління багатоквартирним будинком</dc:title>
</cp:coreProperties>
</file>