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54A1-D776-470E-B085-2CCD55066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4F6B-AECA-459D-AD2B-4660E2528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5B28-6C75-4AAC-B2FB-FDEC6722B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C417-5B13-4E25-A1DB-D36891043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3701-6C37-4E98-B023-DB010356C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40E9-3B5A-4A27-9090-9CF4920F2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AB2-24E0-4DAC-9A2E-D3361685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F56-FE61-4EF5-9F9D-76ECD275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EAF-C9C5-430D-B2C2-5351CCAC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2B3-0AE1-4776-8A75-F07C8F60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07A5-5E5E-43EB-A00B-395C9EC4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6A63-4316-4421-A617-FF5D0338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75CD-E06E-442D-ABA2-41E6AC23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48F4-4399-4FCB-B648-1F73D1E1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25AF-EEE4-437A-942E-314D28FC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E539-6E25-44DE-9282-62613B9B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F14B-C8EC-4F94-AE2D-6EC50453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6BB-95F1-4EFD-B172-92054EAC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F8B4-6A2A-4E46-9D80-47441C02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6C5E-5259-4318-A32A-51808761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973E-34C6-4301-AAEE-1E11EED4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BB71-9924-46E2-AE41-EB936099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8AFB-BB8D-43DB-B069-0874E2F0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B029-EED8-49A3-AE0B-82EDE47C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1F032-5300-4AA4-8CF3-F3709DDC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B101-118C-45EC-A5FB-88EEA960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2427D-2441-4DED-B41F-5BBC6478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D0C4B-2BBD-463C-8CC8-43CF3188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9EC-F691-4060-BC03-5BD9BAD7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23141-5DFA-434D-A55C-B2C13472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4B0E4-2427-4D07-BC26-CFF20B1D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63867-2CD8-4D90-890C-A91D3E32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17C7-05B9-499A-8CC5-D2CA64BA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90E7F-7DEB-4B86-845A-31A28079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7A1D7-2ADC-4B48-8D76-F2B8314A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6B42F-1DC1-4820-9F56-64801B22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E82FD-D8EF-48AE-8364-257206A5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89870-B437-491F-BF63-F358782F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4E044-6D03-46C2-9013-A786EB92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D4B-83DD-4BDD-AE10-19D427EC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122D2-BE75-4CF0-85D3-16C5D5FC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2F9B9-9FD2-4B6B-BAB0-1F5CD745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03025-85B9-4F27-904C-BF07D3E6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88267-9F59-4BDE-9DD2-E583FB2C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09294-E738-4A35-B96E-C158A784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891DD-331F-4AA1-B74E-90BE4E70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C4D67-B08E-4A14-81AC-23B81226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DC54-0C7D-4124-AD95-ECD0E5C7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CEEFE-AE27-4B49-9CCE-DC205571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0DB-B091-4073-974E-BED5E7FE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897-1761-4E11-80AE-895E365F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30F2-88EF-41C3-9E1C-4D3D15AB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2B0-3738-4B4A-A5FC-AE137B2D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670-2859-4FE2-A709-78CC9B75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D0B9-1650-4D99-8C23-151D9DCC8920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9142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271080" y="762120"/>
            <a:ext cx="2923920" cy="533376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43A6-A377-43A7-A818-03C99155C0D7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F3EE-E330-4B4D-B8C0-B0E5A1D115BB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49884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AF04-F3D0-40D1-A23B-C414D3782617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af2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1706400" y="871560"/>
            <a:ext cx="8839440" cy="12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5189400" y="2728800"/>
            <a:ext cx="1532160" cy="33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af2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6939000" y="1650960"/>
            <a:ext cx="5041800" cy="4421160"/>
          </a:xfrm>
          <a:prstGeom prst="rect">
            <a:avLst/>
          </a:prstGeom>
          <a:ln w="0">
            <a:noFill/>
          </a:ln>
        </p:spPr>
      </p:pic>
      <p:pic>
        <p:nvPicPr>
          <p:cNvPr id="180" name="Rectangle 5" descr=""/>
          <p:cNvPicPr/>
          <p:nvPr/>
        </p:nvPicPr>
        <p:blipFill>
          <a:blip r:embed="rId2"/>
          <a:stretch/>
        </p:blipFill>
        <p:spPr>
          <a:xfrm>
            <a:off x="573120" y="-304920"/>
            <a:ext cx="11410920" cy="9874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984240" y="1055520"/>
            <a:ext cx="559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Arial"/>
                <a:ea typeface="Arial"/>
              </a:rPr>
              <a:t>Починаючи з 1993 р ПРООН надає допомогу Уряду України у розробці рішень для здійснення </a:t>
            </a:r>
            <a:r>
              <a:rPr b="1" lang="uk-UA" sz="1600" spc="-1" strike="noStrike">
                <a:solidFill>
                  <a:srgbClr val="0046d2"/>
                </a:solidFill>
                <a:latin typeface="Arial"/>
                <a:ea typeface="Arial"/>
              </a:rPr>
              <a:t>переходу</a:t>
            </a:r>
            <a:r>
              <a:rPr b="1" lang="uk-UA" sz="1600" spc="-1" strike="noStrike">
                <a:solidFill>
                  <a:srgbClr val="0070c0"/>
                </a:solidFill>
                <a:latin typeface="Arial"/>
                <a:ea typeface="Arial"/>
              </a:rPr>
              <a:t> від планової до ринкової економіки та демократії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TextBox 7"/>
          <p:cNvSpPr/>
          <p:nvPr/>
        </p:nvSpPr>
        <p:spPr>
          <a:xfrm>
            <a:off x="984240" y="2496960"/>
            <a:ext cx="568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46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46d2"/>
                </a:solidFill>
                <a:latin typeface="Arial"/>
                <a:ea typeface="Arial"/>
              </a:rPr>
              <a:t>ПРООН є тим підрозділом ООН, який сприяє розвитку держав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984240" y="3524400"/>
            <a:ext cx="559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46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46d2"/>
                </a:solidFill>
                <a:latin typeface="Arial"/>
                <a:ea typeface="Arial"/>
              </a:rPr>
              <a:t>ПРООН у співпраці з державним, регіональним та місцевим урядом, громадянським суспільством та приватним сектором прагне допомогти Україні у її спробах викорінення бідності, розвитку правоздатного суспільства, збереження довкілля та забезпечення верховенства демократії </a:t>
            </a:r>
            <a:r>
              <a:rPr b="0" lang="uk-UA" sz="1600" spc="-1" strike="noStrike">
                <a:solidFill>
                  <a:srgbClr val="0046d2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TextBox 9"/>
          <p:cNvSpPr/>
          <p:nvPr/>
        </p:nvSpPr>
        <p:spPr>
          <a:xfrm flipV="1" rot="10800000">
            <a:off x="984240" y="5511600"/>
            <a:ext cx="565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46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46d2"/>
                </a:solidFill>
                <a:latin typeface="Arial"/>
                <a:ea typeface="Arial"/>
              </a:rPr>
              <a:t>ПРООН керується Цілями розвитку тисячоліття та Конвенціями ООН, до яких приєдналася Україн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7259760" y="898560"/>
            <a:ext cx="47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46d2"/>
                </a:solidFill>
                <a:latin typeface="Arial"/>
                <a:ea typeface="Arial"/>
              </a:rPr>
              <a:t>ЦІЛІ РОЗВИТКУ ТИСЯЧОЛІТТЯ (ЦРТ) 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af2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Rectangle 2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12204720" cy="9874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"/>
          <p:cNvSpPr/>
          <p:nvPr/>
        </p:nvSpPr>
        <p:spPr>
          <a:xfrm>
            <a:off x="1055520" y="1135080"/>
            <a:ext cx="7159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Проект</a:t>
            </a:r>
            <a:r>
              <a:rPr b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 </a:t>
            </a:r>
            <a:r>
              <a:rPr b="1" i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«Прискорення прогресу в досягненні Цілей Розвитку Тисячоліття в Україні» </a:t>
            </a: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01.03.2012-31.12.2016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46d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Має на меті підтримку зусиль Уряду через удосконалення системи моніторингу, планування та інтеграції ЦРТ у стратегічні документи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46d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1208160" y="4292640"/>
            <a:ext cx="67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46d2"/>
                </a:solidFill>
                <a:uFillTx/>
                <a:latin typeface="Arial"/>
                <a:ea typeface="Arial"/>
              </a:rPr>
              <a:t>2.Обмеження поширення віл-інфекції/сніду та туберкульозу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TextBox 8"/>
          <p:cNvSpPr/>
          <p:nvPr/>
        </p:nvSpPr>
        <p:spPr>
          <a:xfrm flipV="1" rot="10800000">
            <a:off x="1055520" y="2076840"/>
            <a:ext cx="730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Проект</a:t>
            </a:r>
            <a:r>
              <a:rPr b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 </a:t>
            </a:r>
            <a:r>
              <a:rPr b="1" i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«Демократизація, права людини і розвиток громадянського суспільства в Україні» </a:t>
            </a: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01.01.2013-31.12.2016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46d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Мета сприяння розвитку відкритого і демократичного суспільства, що спирається на верховенство права та базується на засадах прав людин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TextBox 9"/>
          <p:cNvSpPr/>
          <p:nvPr/>
        </p:nvSpPr>
        <p:spPr>
          <a:xfrm flipV="1" rot="10800000">
            <a:off x="1055160" y="3227760"/>
            <a:ext cx="7458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Проект</a:t>
            </a:r>
            <a:r>
              <a:rPr b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 </a:t>
            </a:r>
            <a:r>
              <a:rPr b="1" i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«Поширення кращих практик недержавного моніторингу надання адміністративних послуг» </a:t>
            </a: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01.01.2013-31.12.2015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46d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Має на меті вдосконалення процесу надання адміністративних послуг органами місцевого самоврядування за рахунок посилення громадського контролю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1208160" y="806400"/>
            <a:ext cx="52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46d2"/>
                </a:solidFill>
                <a:uFillTx/>
                <a:latin typeface="Arial"/>
                <a:ea typeface="Arial"/>
              </a:rPr>
              <a:t>1.Подолання бідності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TextBox 11"/>
          <p:cNvSpPr/>
          <p:nvPr/>
        </p:nvSpPr>
        <p:spPr>
          <a:xfrm flipV="1" rot="10800000">
            <a:off x="1055160" y="4626360"/>
            <a:ext cx="745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Проект</a:t>
            </a:r>
            <a:r>
              <a:rPr b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 </a:t>
            </a:r>
            <a:r>
              <a:rPr b="1" i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«Молоді футбольні волонтери: Спорт та волонтерство для ЦРТ» </a:t>
            </a: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01.05.2012-31.12.2015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46d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Мета профілактика ВІЛ-інфекції та розвиток громадянської активності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TextBox 12"/>
          <p:cNvSpPr/>
          <p:nvPr/>
        </p:nvSpPr>
        <p:spPr>
          <a:xfrm flipV="1" rot="10800000">
            <a:off x="1055160" y="5422680"/>
            <a:ext cx="7458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Проект</a:t>
            </a:r>
            <a:r>
              <a:rPr b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 </a:t>
            </a:r>
            <a:r>
              <a:rPr b="1" i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«Зміцнення національної спроможності для ефективного розвитку молоді та відповіді на епідемію ВІЛ/СНІДу в Україні» </a:t>
            </a: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01.03.2012-31.12.2016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46d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Ціль Проекту- розвиток молоді шляхом популяризації інноваційних моделей її працевлаштуванн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8759880" y="1401840"/>
            <a:ext cx="2633760" cy="1755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3"/>
          <a:stretch/>
        </p:blipFill>
        <p:spPr>
          <a:xfrm>
            <a:off x="8759880" y="4286160"/>
            <a:ext cx="2633760" cy="2095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af2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8504280" y="3803760"/>
            <a:ext cx="3217680" cy="2206440"/>
          </a:xfrm>
          <a:prstGeom prst="rect">
            <a:avLst/>
          </a:prstGeom>
          <a:ln w="0">
            <a:noFill/>
          </a:ln>
        </p:spPr>
      </p:pic>
      <p:pic>
        <p:nvPicPr>
          <p:cNvPr id="197" name="Rectangle 2" descr=""/>
          <p:cNvPicPr/>
          <p:nvPr/>
        </p:nvPicPr>
        <p:blipFill>
          <a:blip r:embed="rId2"/>
          <a:stretch/>
        </p:blipFill>
        <p:spPr>
          <a:xfrm>
            <a:off x="-6480" y="-152280"/>
            <a:ext cx="12204720" cy="9874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208160" y="830160"/>
            <a:ext cx="53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46d2"/>
                </a:solidFill>
                <a:uFillTx/>
                <a:latin typeface="Arial"/>
                <a:ea typeface="Arial"/>
              </a:rPr>
              <a:t>3. Сталий розвиток довкілл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1055520" y="1281240"/>
            <a:ext cx="7091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Проект</a:t>
            </a:r>
            <a:r>
              <a:rPr b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 </a:t>
            </a:r>
            <a:r>
              <a:rPr b="1" i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«Трансформація ринку в напрямку енергоефективного освітлення» </a:t>
            </a: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31.03.2011-31.12.2015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46d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Мета - вирішення ключової проблеми скорочення викидів парникових газів шляхом трансформації ринку в напрямку більш енергоефективних технологій освітленн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46d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055520" y="2435400"/>
            <a:ext cx="7312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Проект</a:t>
            </a:r>
            <a:r>
              <a:rPr b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 </a:t>
            </a:r>
            <a:r>
              <a:rPr b="1" i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« </a:t>
            </a:r>
            <a:r>
              <a:rPr b="1" i="1" lang="en-US" sz="1400" spc="-1" strike="noStrike">
                <a:solidFill>
                  <a:srgbClr val="0046d2"/>
                </a:solidFill>
                <a:latin typeface="Arial"/>
                <a:ea typeface="Arial"/>
              </a:rPr>
              <a:t>Clima East:</a:t>
            </a:r>
            <a:r>
              <a:rPr b="1" i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 Збереження та стале використання торфовищ» </a:t>
            </a: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01.03.2013-31.12.2016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46d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Мета полягає у посиленні інституційної спроможності країни щодо пом</a:t>
            </a:r>
            <a:r>
              <a:rPr b="0" lang="en-US" sz="1400" spc="-1" strike="noStrike">
                <a:solidFill>
                  <a:srgbClr val="0046d2"/>
                </a:solidFill>
                <a:latin typeface="Arial"/>
                <a:ea typeface="Arial"/>
              </a:rPr>
              <a:t>’</a:t>
            </a: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якшення наслідків зміни клімату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46d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1055520" y="4057560"/>
            <a:ext cx="7312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Проект</a:t>
            </a:r>
            <a:r>
              <a:rPr b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 </a:t>
            </a:r>
            <a:r>
              <a:rPr b="1" i="1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«Місцевий Розвиток, Орієнтований на Громаду. Фаза-ІІІ» </a:t>
            </a: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01.01.2014-31.12.2017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46d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46d2"/>
                </a:solidFill>
                <a:latin typeface="Arial"/>
                <a:ea typeface="Arial"/>
              </a:rPr>
              <a:t>Загальна мета полягає у створенні сприятливого середовища для довгострокового соціально-економічного розвитку на місцевому рівні шляхом розвитку місцевого самоврядування та підтримки ініціатив, спрямованих на розвиток на всій території Україн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46d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1208160" y="3651120"/>
            <a:ext cx="53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46d2"/>
                </a:solidFill>
                <a:uFillTx/>
                <a:latin typeface="Arial"/>
                <a:ea typeface="Arial"/>
              </a:rPr>
              <a:t>4. Глобальне партнерство для розвитку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8534520" y="1274760"/>
            <a:ext cx="3090600" cy="2004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af2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7"/>
          <p:cNvSpPr/>
          <p:nvPr/>
        </p:nvSpPr>
        <p:spPr>
          <a:xfrm>
            <a:off x="927000" y="1603440"/>
            <a:ext cx="6411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46d2"/>
                </a:solidFill>
                <a:latin typeface="Arial"/>
                <a:ea typeface="Arial"/>
              </a:rPr>
              <a:t>Україна досягла певного прогресу у скороченні рівня абсолютної бідності, забезпеченні доступу до початкової та середньої освіти, покращенні материнського здоров’я та скороченні дитячої смертності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46d2"/>
                </a:solidFill>
                <a:latin typeface="Arial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0046d2"/>
                </a:solidFill>
                <a:latin typeface="Arial"/>
                <a:ea typeface="Arial"/>
              </a:rPr>
              <a:t>Тим не менш, незважаючи на ці досягнення, бідність залишається дуже гострою проблемою.Іншими проблемними сферами є якість освіти, відсутність прогресу із скорочення ґендерної нерівності та значного розриву у рівні доходів жінок і чоловіків, суттєве зростання епідемії ВІЛ/СНІДу та туберкульозу і загострення проблем охорони навколишнього середовищ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1"/>
          <a:stretch/>
        </p:blipFill>
        <p:spPr>
          <a:xfrm>
            <a:off x="7924680" y="1600200"/>
            <a:ext cx="3886200" cy="292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08:03:24Z</dcterms:created>
  <dc:creator>Larysa Batchenko</dc:creator>
  <dc:description/>
  <dc:language>en-US</dc:language>
  <cp:lastModifiedBy>Larysa Batchenko</cp:lastModifiedBy>
  <dcterms:modified xsi:type="dcterms:W3CDTF">2015-05-14T09:36:02Z</dcterms:modified>
  <cp:revision>43</cp:revision>
  <dc:subject/>
  <dc:title>PowerPoint Presentation</dc:title>
</cp:coreProperties>
</file>