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9CA2-3452-477C-92D2-816D2E6DF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8306-8A34-4A43-985A-270A25CE8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29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D213-0384-43C2-AABC-FCF7EC33FE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AA4F-25CE-47F3-8030-FE57C5F05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29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A7D8-DF6E-44FA-B3CC-F69984E286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EDFB-E4F6-4985-A660-2C1112266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A82-A53C-4693-977F-61CBB19AFA9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8252-E128-4B30-8E00-023FB72D2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948B-7107-41ED-B159-083A8B04F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11040" y="682560"/>
            <a:ext cx="6208920" cy="34941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91720" y="4406400"/>
            <a:ext cx="50482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B50-C622-43DA-BAEE-BE2C42053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11" name="Text Box 2"/>
          <p:cNvSpPr/>
          <p:nvPr/>
        </p:nvSpPr>
        <p:spPr>
          <a:xfrm>
            <a:off x="914400" y="4419720"/>
            <a:ext cx="518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984480" y="8853480"/>
            <a:ext cx="30495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ABD3-AB40-4B04-A7B6-69A7F0632E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33AB-98BF-40FC-AD48-4737A571B5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5C6-BCE0-4BA4-A44A-B8992FFE2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269" name="Text Box 2"/>
          <p:cNvSpPr/>
          <p:nvPr/>
        </p:nvSpPr>
        <p:spPr>
          <a:xfrm>
            <a:off x="914400" y="4419720"/>
            <a:ext cx="518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984480" y="8853480"/>
            <a:ext cx="30495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598A-9C6A-427B-BFD9-5B15C67FC5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2468-7D64-446E-8B4E-1BBD43D73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914400" y="4419720"/>
            <a:ext cx="518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984480" y="8853480"/>
            <a:ext cx="30495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E357-F636-42E3-B760-40BC43333E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187F-4C74-488C-BCF5-4F6E4251B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277" name="Text Box 2"/>
          <p:cNvSpPr/>
          <p:nvPr/>
        </p:nvSpPr>
        <p:spPr>
          <a:xfrm>
            <a:off x="914400" y="4419720"/>
            <a:ext cx="518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984480" y="8853480"/>
            <a:ext cx="30495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4535-890F-4C4F-88A2-0A3A5F85C94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DC60-439A-4F68-8EE5-4474C6DC1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281" name="Text Box 2"/>
          <p:cNvSpPr/>
          <p:nvPr/>
        </p:nvSpPr>
        <p:spPr>
          <a:xfrm>
            <a:off x="914400" y="4419720"/>
            <a:ext cx="518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984480" y="8853480"/>
            <a:ext cx="30495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4943-78DD-46DD-98CF-B9750D94516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7BF-AA57-482B-8228-D7CFD6B98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285" name="Text Box 2"/>
          <p:cNvSpPr/>
          <p:nvPr/>
        </p:nvSpPr>
        <p:spPr>
          <a:xfrm>
            <a:off x="914400" y="4419720"/>
            <a:ext cx="518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84480" y="8853480"/>
            <a:ext cx="30495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167D-A7AB-48E5-BFB1-B244CBE0D7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6CB5-3918-4756-9317-744616A74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289" name="Text Box 2"/>
          <p:cNvSpPr/>
          <p:nvPr/>
        </p:nvSpPr>
        <p:spPr>
          <a:xfrm>
            <a:off x="914400" y="4419720"/>
            <a:ext cx="518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984480" y="8853480"/>
            <a:ext cx="30495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0B9B-E423-4938-AEE5-2B224F46841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09F-185B-4D5C-8047-BC02B3FA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8E3-F19D-4D55-A842-ACA2A5B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35F-ACD9-48A8-B001-C3390EE6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784-163C-47A5-A09E-92445C86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E8A-12AF-4FC1-B54E-C89F9ECB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613-8B71-47D1-BC0B-C4AA25EC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A03-340A-4EE0-B1C0-EA342794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9D6-9DC3-40EB-8D9C-09B3650A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FEA-BC33-413E-A979-B306BCC0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088-2862-4AC4-8BF1-BB142AD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E2F-790B-4265-AAC5-32A83AAD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746-216F-4377-8074-50BCF45B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5EC8-CE1A-444D-A6CF-F88300F31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rp.org.ua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4000" cy="233028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 Light"/>
              </a:rPr>
              <a:t>ОБ’ЄДНАННЯ СПІВВЛАСНИКІВ БАГАТОКВАРТИРНОГО БУДИНКУ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452400"/>
            <a:ext cx="9144000" cy="221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75b6"/>
                </a:solidFill>
                <a:latin typeface="Calibri"/>
              </a:rPr>
              <a:t>Люди, которые не верят в светлое будущее в него не прид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211480" y="461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80"/>
                </a:solidFill>
                <a:latin typeface="Arial"/>
                <a:ea typeface="DejaVu Sans"/>
              </a:rPr>
              <a:t>Установчі зб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57400" y="1278000"/>
          <a:ext cx="8078760" cy="4795920"/>
        </p:xfrm>
        <a:graphic>
          <a:graphicData uri="http://schemas.openxmlformats.org/drawingml/2006/table">
            <a:tbl>
              <a:tblPr/>
              <a:tblGrid>
                <a:gridCol w="2057400"/>
                <a:gridCol w="6021360"/>
              </a:tblGrid>
              <a:tr h="72540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Ініціатор скликанн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Ініціативна група, яка складається не менш як з трьох власникі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квартир або нежилих приміщ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Термін скликанн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Не менше ніж за 14 днів до дати проведення установчих зборі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Форма повідомленн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Направляється в письмовій формі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вручається кожному власнику під розписку, а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шляхом поштового відправлення (рекомендованим листом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Зміст повідомленн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з чиєї ініціативи скликаються збор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місц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час проведенн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проект порядку денно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Квору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Відсутній як поняття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Право голосу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Кожний власник на установчих зборах має кількість голосів </a:t>
                      </a:r>
                      <a:r>
                        <a:rPr b="1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Arial Unicode MS"/>
                        </a:rPr>
                        <a:t>пропорційно площ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і квартир або приміщень, що перебувають у його власност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47"/>
          <p:cNvSpPr/>
          <p:nvPr/>
        </p:nvSpPr>
        <p:spPr>
          <a:xfrm>
            <a:off x="8400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635A-C645-47E0-888C-7F05809B3E0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2092320" y="1285920"/>
          <a:ext cx="8196120" cy="4910040"/>
        </p:xfrm>
        <a:graphic>
          <a:graphicData uri="http://schemas.openxmlformats.org/drawingml/2006/table">
            <a:tbl>
              <a:tblPr/>
              <a:tblGrid>
                <a:gridCol w="2060640"/>
                <a:gridCol w="6135480"/>
              </a:tblGrid>
              <a:tr h="37152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Хто вед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Голова зборів (обирається більшістю голосів </a:t>
                      </a:r>
                      <a:r>
                        <a:rPr b="1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DejaVu Sans"/>
                        </a:rPr>
                        <a:t>присутніх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Голосуванн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беруть участь власники (їх уповноважені особи), які присутні на установчих зб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шляхом поіменного голос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572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Прийняття рішення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більше половини голосів </a:t>
                      </a:r>
                      <a:r>
                        <a:rPr b="1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DejaVu Sans"/>
                        </a:rPr>
                        <a:t>від загальної кількості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голосів співвласник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оформлюється особистим підписом кожного, хто проголосував, у протоколі із зазначенням результату голосування ("за" чи "проти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Результа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прийняття рішення про створення об'єдн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затвердження стату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обрання правління та ревізійної коміс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обрання повноважного для подання документів на реєстраці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5364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Письмове опит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640" bIns="46800" anchor="t">
                      <a:noAutofit/>
                    </a:bodyPr>
                    <a:p>
                      <a:pPr marL="216000" indent="-216000"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6000"/>
                          <a:tab algn="l" pos="1130400"/>
                          <a:tab algn="l" pos="2044800"/>
                          <a:tab algn="l" pos="2959200"/>
                          <a:tab algn="l" pos="3873600"/>
                          <a:tab algn="l" pos="4788000"/>
                          <a:tab algn="l" pos="5702400"/>
                          <a:tab algn="l" pos="6616800"/>
                          <a:tab algn="l" pos="7531200"/>
                          <a:tab algn="l" pos="8445600"/>
                          <a:tab algn="l" pos="9360000"/>
                          <a:tab algn="l" pos="10274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у разі відсутності більшості ні “за” ні “проти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16000" indent="-216000"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6000"/>
                          <a:tab algn="l" pos="1130400"/>
                          <a:tab algn="l" pos="2044800"/>
                          <a:tab algn="l" pos="2959200"/>
                          <a:tab algn="l" pos="3873600"/>
                          <a:tab algn="l" pos="4788000"/>
                          <a:tab algn="l" pos="5702400"/>
                          <a:tab algn="l" pos="6616800"/>
                          <a:tab algn="l" pos="7531200"/>
                          <a:tab algn="l" pos="8445600"/>
                          <a:tab algn="l" pos="9360000"/>
                          <a:tab algn="l" pos="10274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протягом 15 днів від дати установчих збо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16000" indent="-216000">
                        <a:lnSpc>
                          <a:spcPct val="97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6000"/>
                          <a:tab algn="l" pos="1130400"/>
                          <a:tab algn="l" pos="2044800"/>
                          <a:tab algn="l" pos="2959200"/>
                          <a:tab algn="l" pos="3873600"/>
                          <a:tab algn="l" pos="4788000"/>
                          <a:tab algn="l" pos="5702400"/>
                          <a:tab algn="l" pos="6616800"/>
                          <a:tab algn="l" pos="7531200"/>
                          <a:tab algn="l" pos="8445600"/>
                          <a:tab algn="l" pos="9360000"/>
                          <a:tab algn="l" pos="102744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голоси зараховуються разом із голосами, відданими на зб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39"/>
          <p:cNvSpPr/>
          <p:nvPr/>
        </p:nvSpPr>
        <p:spPr>
          <a:xfrm>
            <a:off x="843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15CE-48D3-4EA6-89CE-E7E4FA2812C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40"/>
          <p:cNvSpPr/>
          <p:nvPr/>
        </p:nvSpPr>
        <p:spPr>
          <a:xfrm>
            <a:off x="2305080" y="59220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80"/>
                </a:solidFill>
                <a:latin typeface="Arial"/>
                <a:ea typeface="DejaVu Sans"/>
              </a:rPr>
              <a:t>Установчі зб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1236600" y="6119640"/>
            <a:ext cx="4320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2"/>
          <p:cNvSpPr/>
          <p:nvPr/>
        </p:nvSpPr>
        <p:spPr>
          <a:xfrm>
            <a:off x="1668600" y="6624720"/>
            <a:ext cx="18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8148600" y="6427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2F92-3D2E-4859-A5B3-EE60A9714C4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Группа 2"/>
          <p:cNvGrpSpPr/>
          <p:nvPr/>
        </p:nvGrpSpPr>
        <p:grpSpPr>
          <a:xfrm>
            <a:off x="1355760" y="747720"/>
            <a:ext cx="8926200" cy="5435280"/>
            <a:chOff x="1355760" y="747720"/>
            <a:chExt cx="8926200" cy="5435280"/>
          </a:xfrm>
        </p:grpSpPr>
        <p:sp>
          <p:nvSpPr>
            <p:cNvPr id="189" name="Text Box 2"/>
            <p:cNvSpPr/>
            <p:nvPr/>
          </p:nvSpPr>
          <p:spPr>
            <a:xfrm>
              <a:off x="1355760" y="1611360"/>
              <a:ext cx="2016000" cy="63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 Narrow"/>
                  <a:ea typeface="DejaVu Sans"/>
                </a:rPr>
                <a:t>Створення ініціативної груп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0" name="Group 3"/>
            <p:cNvGrpSpPr/>
            <p:nvPr/>
          </p:nvGrpSpPr>
          <p:grpSpPr>
            <a:xfrm>
              <a:off x="3373560" y="747720"/>
              <a:ext cx="2301840" cy="2329920"/>
              <a:chOff x="3373560" y="747720"/>
              <a:chExt cx="2301840" cy="2329920"/>
            </a:xfrm>
          </p:grpSpPr>
          <p:sp>
            <p:nvSpPr>
              <p:cNvPr id="191" name="Text Box 4"/>
              <p:cNvSpPr/>
              <p:nvPr/>
            </p:nvSpPr>
            <p:spPr>
              <a:xfrm>
                <a:off x="4021200" y="747720"/>
                <a:ext cx="1654200" cy="637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З’ясування стану будинку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 Box 5"/>
              <p:cNvSpPr/>
              <p:nvPr/>
            </p:nvSpPr>
            <p:spPr>
              <a:xfrm>
                <a:off x="4021200" y="1576080"/>
                <a:ext cx="1654200" cy="637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Вивчення законодавств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Text Box 6"/>
              <p:cNvSpPr/>
              <p:nvPr/>
            </p:nvSpPr>
            <p:spPr>
              <a:xfrm>
                <a:off x="4021200" y="2439720"/>
                <a:ext cx="1654200" cy="637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Збір інформації про власників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7"/>
              <p:cNvSpPr/>
              <p:nvPr/>
            </p:nvSpPr>
            <p:spPr>
              <a:xfrm>
                <a:off x="3373560" y="1935000"/>
                <a:ext cx="28548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8"/>
              <p:cNvSpPr/>
              <p:nvPr/>
            </p:nvSpPr>
            <p:spPr>
              <a:xfrm>
                <a:off x="3660840" y="1071360"/>
                <a:ext cx="0" cy="172692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9"/>
              <p:cNvSpPr/>
              <p:nvPr/>
            </p:nvSpPr>
            <p:spPr>
              <a:xfrm>
                <a:off x="3660840" y="1071360"/>
                <a:ext cx="35856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3651120" y="1935000"/>
                <a:ext cx="35892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>
                <a:off x="3651120" y="2798640"/>
                <a:ext cx="35892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9" name="Group 12"/>
            <p:cNvGrpSpPr/>
            <p:nvPr/>
          </p:nvGrpSpPr>
          <p:grpSpPr>
            <a:xfrm>
              <a:off x="5675400" y="998280"/>
              <a:ext cx="1942560" cy="1870200"/>
              <a:chOff x="5675400" y="998280"/>
              <a:chExt cx="1942560" cy="1870200"/>
            </a:xfrm>
          </p:grpSpPr>
          <p:sp>
            <p:nvSpPr>
              <p:cNvPr id="200" name="AutoShape 13"/>
              <p:cNvSpPr/>
              <p:nvPr/>
            </p:nvSpPr>
            <p:spPr>
              <a:xfrm>
                <a:off x="6251400" y="998280"/>
                <a:ext cx="1366560" cy="1870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Розробк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проекту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статуту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(на базі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типового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5675400" y="1935000"/>
                <a:ext cx="24084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>
                <a:off x="5918040" y="1071360"/>
                <a:ext cx="0" cy="172728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Line 16"/>
              <p:cNvSpPr/>
              <p:nvPr/>
            </p:nvSpPr>
            <p:spPr>
              <a:xfrm>
                <a:off x="5908320" y="1935000"/>
                <a:ext cx="35856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Line 17"/>
              <p:cNvSpPr/>
              <p:nvPr/>
            </p:nvSpPr>
            <p:spPr>
              <a:xfrm>
                <a:off x="5675400" y="1071360"/>
                <a:ext cx="24084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Line 18"/>
              <p:cNvSpPr/>
              <p:nvPr/>
            </p:nvSpPr>
            <p:spPr>
              <a:xfrm>
                <a:off x="5675400" y="2798640"/>
                <a:ext cx="24084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6" name="Group 19"/>
            <p:cNvGrpSpPr/>
            <p:nvPr/>
          </p:nvGrpSpPr>
          <p:grpSpPr>
            <a:xfrm>
              <a:off x="7610760" y="747720"/>
              <a:ext cx="2419200" cy="2329920"/>
              <a:chOff x="7610760" y="747720"/>
              <a:chExt cx="2419200" cy="2329920"/>
            </a:xfrm>
          </p:grpSpPr>
          <p:sp>
            <p:nvSpPr>
              <p:cNvPr id="207" name="Text Box 20"/>
              <p:cNvSpPr/>
              <p:nvPr/>
            </p:nvSpPr>
            <p:spPr>
              <a:xfrm>
                <a:off x="8258400" y="747720"/>
                <a:ext cx="1771560" cy="637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Роз’яснювальна ро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Text Box 21"/>
              <p:cNvSpPr/>
              <p:nvPr/>
            </p:nvSpPr>
            <p:spPr>
              <a:xfrm>
                <a:off x="8258400" y="1612440"/>
                <a:ext cx="1771560" cy="6458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Підбір правління і ревкомісі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Text Box 22"/>
              <p:cNvSpPr/>
              <p:nvPr/>
            </p:nvSpPr>
            <p:spPr>
              <a:xfrm>
                <a:off x="8258400" y="2439720"/>
                <a:ext cx="1771560" cy="637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Скликання уста-новчих зборів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7610760" y="1935000"/>
                <a:ext cx="28548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>
                <a:off x="7899480" y="1071360"/>
                <a:ext cx="0" cy="172692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7899480" y="1071360"/>
                <a:ext cx="35892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7890120" y="1935000"/>
                <a:ext cx="35856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Line 27"/>
              <p:cNvSpPr/>
              <p:nvPr/>
            </p:nvSpPr>
            <p:spPr>
              <a:xfrm>
                <a:off x="7890120" y="2800080"/>
                <a:ext cx="35856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28"/>
            <p:cNvGrpSpPr/>
            <p:nvPr/>
          </p:nvGrpSpPr>
          <p:grpSpPr>
            <a:xfrm>
              <a:off x="1427040" y="1071360"/>
              <a:ext cx="8854920" cy="5038560"/>
              <a:chOff x="1427040" y="1071360"/>
              <a:chExt cx="8854920" cy="5038560"/>
            </a:xfrm>
          </p:grpSpPr>
          <p:sp>
            <p:nvSpPr>
              <p:cNvPr id="216" name="AutoShape 29"/>
              <p:cNvSpPr/>
              <p:nvPr/>
            </p:nvSpPr>
            <p:spPr>
              <a:xfrm>
                <a:off x="1571400" y="3808080"/>
                <a:ext cx="2806560" cy="23018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AutoShape 30"/>
              <p:cNvSpPr/>
              <p:nvPr/>
            </p:nvSpPr>
            <p:spPr>
              <a:xfrm>
                <a:off x="1500120" y="3698640"/>
                <a:ext cx="2806560" cy="23018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10031040" y="1935000"/>
                <a:ext cx="24156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Line 32"/>
              <p:cNvSpPr/>
              <p:nvPr/>
            </p:nvSpPr>
            <p:spPr>
              <a:xfrm>
                <a:off x="10274040" y="1071360"/>
                <a:ext cx="6480" cy="219384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Line 33"/>
              <p:cNvSpPr/>
              <p:nvPr/>
            </p:nvSpPr>
            <p:spPr>
              <a:xfrm>
                <a:off x="10031040" y="1071360"/>
                <a:ext cx="24156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Line 34"/>
              <p:cNvSpPr/>
              <p:nvPr/>
            </p:nvSpPr>
            <p:spPr>
              <a:xfrm>
                <a:off x="10032840" y="2798640"/>
                <a:ext cx="24120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Line 35"/>
              <p:cNvSpPr/>
              <p:nvPr/>
            </p:nvSpPr>
            <p:spPr>
              <a:xfrm>
                <a:off x="2795400" y="3266640"/>
                <a:ext cx="748656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2795400" y="3266640"/>
                <a:ext cx="0" cy="35892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AutoShape 37"/>
              <p:cNvSpPr/>
              <p:nvPr/>
            </p:nvSpPr>
            <p:spPr>
              <a:xfrm>
                <a:off x="1427040" y="3627000"/>
                <a:ext cx="2806560" cy="2302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Пакет документів на збори: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-"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проект статуту з проектом назви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-"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- список власників,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-"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кандидатури до правління,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            </a:t>
                </a: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ревізійної комісії, голови зборів,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- проект протоколу,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- порядок ведення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5" name="Group 38"/>
            <p:cNvGrpSpPr/>
            <p:nvPr/>
          </p:nvGrpSpPr>
          <p:grpSpPr>
            <a:xfrm>
              <a:off x="4379760" y="3627360"/>
              <a:ext cx="1869480" cy="2158920"/>
              <a:chOff x="4379760" y="3627360"/>
              <a:chExt cx="1869480" cy="2158920"/>
            </a:xfrm>
          </p:grpSpPr>
          <p:sp>
            <p:nvSpPr>
              <p:cNvPr id="226" name="Text Box 39"/>
              <p:cNvSpPr/>
              <p:nvPr/>
            </p:nvSpPr>
            <p:spPr>
              <a:xfrm>
                <a:off x="4846320" y="3627360"/>
                <a:ext cx="1402920" cy="2158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Проведення установчих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зборів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40"/>
              <p:cNvSpPr/>
              <p:nvPr/>
            </p:nvSpPr>
            <p:spPr>
              <a:xfrm>
                <a:off x="4379760" y="4635360"/>
                <a:ext cx="48456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8" name="Group 41"/>
            <p:cNvGrpSpPr/>
            <p:nvPr/>
          </p:nvGrpSpPr>
          <p:grpSpPr>
            <a:xfrm>
              <a:off x="6243840" y="3627360"/>
              <a:ext cx="2382840" cy="2555640"/>
              <a:chOff x="6243840" y="3627360"/>
              <a:chExt cx="2382840" cy="2555640"/>
            </a:xfrm>
          </p:grpSpPr>
          <p:sp>
            <p:nvSpPr>
              <p:cNvPr id="229" name="AutoShape 42"/>
              <p:cNvSpPr/>
              <p:nvPr/>
            </p:nvSpPr>
            <p:spPr>
              <a:xfrm>
                <a:off x="6856560" y="3880080"/>
                <a:ext cx="1770120" cy="230292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AutoShape 43"/>
              <p:cNvSpPr/>
              <p:nvPr/>
            </p:nvSpPr>
            <p:spPr>
              <a:xfrm>
                <a:off x="6788160" y="3772080"/>
                <a:ext cx="1770120" cy="230292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AutoShape 44"/>
              <p:cNvSpPr/>
              <p:nvPr/>
            </p:nvSpPr>
            <p:spPr>
              <a:xfrm>
                <a:off x="6720120" y="3627360"/>
                <a:ext cx="1770120" cy="230328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Паке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документів н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реєстрацію: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- статут,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- протокол + додатки,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- заяв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6243840" y="4636080"/>
                <a:ext cx="48420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Group 46"/>
            <p:cNvGrpSpPr/>
            <p:nvPr/>
          </p:nvGrpSpPr>
          <p:grpSpPr>
            <a:xfrm>
              <a:off x="8628120" y="3627360"/>
              <a:ext cx="1653840" cy="2085840"/>
              <a:chOff x="8628120" y="3627360"/>
              <a:chExt cx="1653840" cy="2085840"/>
            </a:xfrm>
          </p:grpSpPr>
          <p:sp>
            <p:nvSpPr>
              <p:cNvPr id="234" name="Line 47"/>
              <p:cNvSpPr/>
              <p:nvPr/>
            </p:nvSpPr>
            <p:spPr>
              <a:xfrm>
                <a:off x="8628120" y="4635360"/>
                <a:ext cx="357120" cy="0"/>
              </a:xfrm>
              <a:prstGeom prst="line">
                <a:avLst/>
              </a:prstGeom>
              <a:ln w="3600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AutoShape 48"/>
              <p:cNvSpPr/>
              <p:nvPr/>
            </p:nvSpPr>
            <p:spPr>
              <a:xfrm>
                <a:off x="8987040" y="3627360"/>
                <a:ext cx="1294920" cy="208584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Поданн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документів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державному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 Narrow"/>
                    <a:ea typeface="DejaVu Sans"/>
                  </a:rPr>
                  <a:t>реєстратору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6" name="Прямоугольник 1"/>
          <p:cNvSpPr/>
          <p:nvPr/>
        </p:nvSpPr>
        <p:spPr>
          <a:xfrm>
            <a:off x="10344600" y="64882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merp.org.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1077840" y="671400"/>
            <a:ext cx="1028376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80"/>
                </a:solidFill>
                <a:latin typeface="Arial"/>
                <a:ea typeface="DejaVu Sans"/>
              </a:rPr>
              <a:t>Різні закони - різний порядо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80"/>
                </a:solidFill>
                <a:latin typeface="Arial"/>
                <a:ea typeface="DejaVu Sans"/>
              </a:rPr>
              <a:t>ГОЛОСУВАНН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057400" y="21337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90520" y="2001960"/>
          <a:ext cx="9720360" cy="3878280"/>
        </p:xfrm>
        <a:graphic>
          <a:graphicData uri="http://schemas.openxmlformats.org/drawingml/2006/table">
            <a:tbl>
              <a:tblPr/>
              <a:tblGrid>
                <a:gridCol w="4857840"/>
                <a:gridCol w="4862520"/>
              </a:tblGrid>
              <a:tr h="492120">
                <a:tc>
                  <a:txBody>
                    <a:bodyPr lIns="90000" rIns="90000" tIns="637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кон “Про особливості...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37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кон “Про ОСББ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6160">
                <a:tc>
                  <a:txBody>
                    <a:bodyPr lIns="90000" rIns="90000" tIns="6516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icrosoft YaHei"/>
                        </a:rPr>
                        <a:t>Неорганізовані влас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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порційно площі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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і питання: &gt;3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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ння управителя: &gt;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icrosoft YaHei"/>
                        </a:rPr>
                        <a:t>Установчі зб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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порційно площі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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і питання: &gt;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icrosoft YaHei"/>
                        </a:rPr>
                        <a:t>Загальні зб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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порційно площі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/ як завгод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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і питання: &gt;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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еякі питання: &gt;=2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20"/>
          <p:cNvSpPr/>
          <p:nvPr/>
        </p:nvSpPr>
        <p:spPr>
          <a:xfrm>
            <a:off x="8664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5675-2461-48E8-8A4F-08FA05357AC5}" type="slidenum">
              <a:rPr b="1" lang="ru-RU" sz="1200" spc="-1" strike="noStrike">
                <a:solidFill>
                  <a:srgbClr val="003366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72D8BAF-4589-48A7-9FDA-EFCFDDD328AD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832040" y="1825560"/>
          <a:ext cx="8334360" cy="4408560"/>
        </p:xfrm>
        <a:graphic>
          <a:graphicData uri="http://schemas.openxmlformats.org/drawingml/2006/table">
            <a:tbl>
              <a:tblPr/>
              <a:tblGrid>
                <a:gridCol w="1315800"/>
                <a:gridCol w="2460960"/>
                <a:gridCol w="2279520"/>
                <a:gridCol w="2278080"/>
              </a:tblGrid>
              <a:tr h="70344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пис у зако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тверджена 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row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орга-нізовані влас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окол зб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исток опи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617760">
                <a:tc row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становчі зб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окол зб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исток опи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617760">
                <a:tc row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гальні зб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окол зб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исток опи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90" descr=""/>
          <p:cNvPicPr/>
          <p:nvPr/>
        </p:nvPicPr>
        <p:blipFill>
          <a:blip r:embed="rId1"/>
          <a:stretch/>
        </p:blipFill>
        <p:spPr>
          <a:xfrm>
            <a:off x="6151680" y="2260440"/>
            <a:ext cx="1085760" cy="1086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1" descr=""/>
          <p:cNvPicPr/>
          <p:nvPr/>
        </p:nvPicPr>
        <p:blipFill>
          <a:blip r:embed="rId2"/>
          <a:stretch/>
        </p:blipFill>
        <p:spPr>
          <a:xfrm>
            <a:off x="8569440" y="29005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2" descr=""/>
          <p:cNvPicPr/>
          <p:nvPr/>
        </p:nvPicPr>
        <p:blipFill>
          <a:blip r:embed="rId3"/>
          <a:stretch/>
        </p:blipFill>
        <p:spPr>
          <a:xfrm>
            <a:off x="6180120" y="2852640"/>
            <a:ext cx="1085760" cy="1086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3" descr=""/>
          <p:cNvPicPr/>
          <p:nvPr/>
        </p:nvPicPr>
        <p:blipFill>
          <a:blip r:embed="rId4"/>
          <a:stretch/>
        </p:blipFill>
        <p:spPr>
          <a:xfrm>
            <a:off x="6180120" y="411480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4" descr=""/>
          <p:cNvPicPr/>
          <p:nvPr/>
        </p:nvPicPr>
        <p:blipFill>
          <a:blip r:embed="rId5"/>
          <a:stretch/>
        </p:blipFill>
        <p:spPr>
          <a:xfrm>
            <a:off x="8540640" y="2260440"/>
            <a:ext cx="1086120" cy="1086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5" descr=""/>
          <p:cNvPicPr/>
          <p:nvPr/>
        </p:nvPicPr>
        <p:blipFill>
          <a:blip r:embed="rId6"/>
          <a:stretch/>
        </p:blipFill>
        <p:spPr>
          <a:xfrm>
            <a:off x="6188040" y="345600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6" descr=""/>
          <p:cNvPicPr/>
          <p:nvPr/>
        </p:nvPicPr>
        <p:blipFill>
          <a:blip r:embed="rId7"/>
          <a:stretch/>
        </p:blipFill>
        <p:spPr>
          <a:xfrm>
            <a:off x="8575560" y="3503520"/>
            <a:ext cx="1086120" cy="1086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7" descr=""/>
          <p:cNvPicPr/>
          <p:nvPr/>
        </p:nvPicPr>
        <p:blipFill>
          <a:blip r:embed="rId8"/>
          <a:stretch/>
        </p:blipFill>
        <p:spPr>
          <a:xfrm>
            <a:off x="8583480" y="412128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8" descr=""/>
          <p:cNvPicPr/>
          <p:nvPr/>
        </p:nvPicPr>
        <p:blipFill>
          <a:blip r:embed="rId9"/>
          <a:stretch/>
        </p:blipFill>
        <p:spPr>
          <a:xfrm>
            <a:off x="8613720" y="473076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9" descr=""/>
          <p:cNvPicPr/>
          <p:nvPr/>
        </p:nvPicPr>
        <p:blipFill>
          <a:blip r:embed="rId10"/>
          <a:stretch/>
        </p:blipFill>
        <p:spPr>
          <a:xfrm>
            <a:off x="8613720" y="535788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0" descr=""/>
          <p:cNvPicPr/>
          <p:nvPr/>
        </p:nvPicPr>
        <p:blipFill>
          <a:blip r:embed="rId11"/>
          <a:stretch/>
        </p:blipFill>
        <p:spPr>
          <a:xfrm>
            <a:off x="6188040" y="475308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1" descr=""/>
          <p:cNvPicPr/>
          <p:nvPr/>
        </p:nvPicPr>
        <p:blipFill>
          <a:blip r:embed="rId12"/>
          <a:stretch/>
        </p:blipFill>
        <p:spPr>
          <a:xfrm>
            <a:off x="6218280" y="534672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8200" y="368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80"/>
                </a:solidFill>
                <a:latin typeface="Arial"/>
                <a:ea typeface="DejaVu Sans"/>
              </a:rPr>
              <a:t>Різні закони – різні вимоги</a:t>
            </a:r>
            <a:br>
              <a:rPr sz="2600"/>
            </a:br>
            <a:r>
              <a:rPr b="1" lang="uk-UA" sz="2600" spc="-1" strike="noStrike">
                <a:solidFill>
                  <a:srgbClr val="000080"/>
                </a:solidFill>
                <a:latin typeface="Arial"/>
                <a:ea typeface="DejaVu Sans"/>
              </a:rPr>
              <a:t>Форма протоколу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209680" y="2354400"/>
            <a:ext cx="8026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Типовий статут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- наказ ДЖКГ № 141 від 27.07.2003 р. (у редакці наказу Мінрегіону № 238 від 23.09.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Форма протоколу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* - наказ Мінрегіону від 25.08.2015  № 2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Решта документів - приклади на </a:t>
            </a:r>
            <a:r>
              <a:rPr b="1" lang="uk-UA" sz="2800" spc="-1" strike="noStrike" u="sng">
                <a:solidFill>
                  <a:srgbClr val="000099"/>
                </a:solidFill>
                <a:uFillTx/>
                <a:latin typeface="Arial Narrow"/>
                <a:ea typeface="Arial Unicode MS"/>
              </a:rPr>
              <a:t>proosbb.info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в розділі “Бібліотека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077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0A1A-60FC-4CB2-9479-6193D1C02E7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062080" y="1203480"/>
            <a:ext cx="85899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DejaVu Sans"/>
              </a:rPr>
              <a:t>Форми документ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80"/>
                </a:solidFill>
                <a:latin typeface="Arial"/>
                <a:ea typeface="DejaVu Sans"/>
              </a:rPr>
              <a:t>Інформаційні ресурс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99"/>
                </a:solidFill>
                <a:uFillTx/>
                <a:latin typeface="Arial Narrow"/>
                <a:ea typeface="Arial Unicode MS"/>
              </a:rPr>
              <a:t>proosbb.inf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99"/>
                </a:solidFill>
                <a:uFillTx/>
                <a:latin typeface="Arial Narrow"/>
                <a:ea typeface="Arial Unicode MS"/>
              </a:rPr>
              <a:t>mdi.org.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563c1"/>
                </a:solidFill>
                <a:uFillTx/>
                <a:latin typeface="Arial Narrow"/>
                <a:ea typeface="Arial Unicode MS"/>
                <a:hlinkClick r:id="rId1"/>
              </a:rPr>
              <a:t>merp.org.ua</a:t>
            </a:r>
            <a:r>
              <a:rPr b="1" lang="uk-UA" sz="2600" spc="-1" strike="noStrike" u="sng">
                <a:solidFill>
                  <a:srgbClr val="000099"/>
                </a:solidFill>
                <a:uFillTx/>
                <a:latin typeface="Arial Narrow"/>
                <a:ea typeface="Arial Unicode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99"/>
                </a:solidFill>
                <a:uFillTx/>
                <a:latin typeface="Arial Narrow"/>
                <a:ea typeface="Arial Unicode MS"/>
              </a:rPr>
              <a:t>teplydim.com.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еціалізована соціальна мережа для співвласників багатоквартирних будинків та їх об’єднан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Інститут місцевого розвит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ект USAID «Муніципальна енергетична реформа в Україні»</a:t>
            </a:r>
            <a:r>
              <a:rPr b="1" lang="uk-UA" sz="2600" spc="-1" strike="noStrike">
                <a:solidFill>
                  <a:srgbClr val="000099"/>
                </a:solidFill>
                <a:latin typeface="Arial Narrow"/>
                <a:ea typeface="Arial Unicode MS"/>
              </a:rPr>
              <a:t> ОСББ: поради та можливост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ЛИЙ ДІМ – інформаційний ресурс з питань підвищення енергоефективності у житловому секторі в Украіні (ЄБР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36960" y="1825200"/>
            <a:ext cx="8316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Законодавець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Не пиши законів народ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який не має власност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Громадянин без власності не має вітч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іфагор Самось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(близько 580-500 рр. до Р. X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55480" y="932040"/>
            <a:ext cx="669924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99"/>
                </a:solidFill>
                <a:latin typeface="Arial"/>
                <a:ea typeface="DejaVu Sans"/>
              </a:rPr>
              <a:t>СТВОРЕННЯ</a:t>
            </a:r>
            <a:br>
              <a:rPr sz="6000"/>
            </a:br>
            <a:r>
              <a:rPr b="1" lang="uk-UA" sz="6000" spc="-1" strike="noStrike">
                <a:solidFill>
                  <a:srgbClr val="000099"/>
                </a:solidFill>
                <a:latin typeface="Arial"/>
                <a:ea typeface="DejaVu Sans"/>
              </a:rPr>
              <a:t> ОСББ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3" descr="clipart_board-meeting.jpg"/>
          <p:cNvPicPr/>
          <p:nvPr/>
        </p:nvPicPr>
        <p:blipFill>
          <a:blip r:embed="rId1"/>
          <a:stretch/>
        </p:blipFill>
        <p:spPr>
          <a:xfrm>
            <a:off x="338040" y="3319560"/>
            <a:ext cx="42674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53" name="Группа 63"/>
          <p:cNvGrpSpPr/>
          <p:nvPr/>
        </p:nvGrpSpPr>
        <p:grpSpPr>
          <a:xfrm>
            <a:off x="8037360" y="561960"/>
            <a:ext cx="3810240" cy="3127320"/>
            <a:chOff x="8037360" y="561960"/>
            <a:chExt cx="3810240" cy="3127320"/>
          </a:xfrm>
        </p:grpSpPr>
        <p:sp>
          <p:nvSpPr>
            <p:cNvPr id="54" name="Line 1"/>
            <p:cNvSpPr/>
            <p:nvPr/>
          </p:nvSpPr>
          <p:spPr>
            <a:xfrm flipV="1">
              <a:off x="8037360" y="572400"/>
              <a:ext cx="1085040" cy="904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2"/>
            <p:cNvSpPr/>
            <p:nvPr/>
          </p:nvSpPr>
          <p:spPr>
            <a:xfrm>
              <a:off x="9122400" y="561960"/>
              <a:ext cx="16639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3"/>
            <p:cNvSpPr/>
            <p:nvPr/>
          </p:nvSpPr>
          <p:spPr>
            <a:xfrm>
              <a:off x="10786680" y="561960"/>
              <a:ext cx="1060920" cy="8856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8977680" y="2043000"/>
              <a:ext cx="650880" cy="42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8977680" y="2500200"/>
              <a:ext cx="650880" cy="423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8615880" y="2957400"/>
              <a:ext cx="1012680" cy="423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9660600" y="2043000"/>
              <a:ext cx="650880" cy="423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9660600" y="2957400"/>
              <a:ext cx="650880" cy="423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0"/>
            <p:cNvSpPr/>
            <p:nvPr/>
          </p:nvSpPr>
          <p:spPr>
            <a:xfrm>
              <a:off x="10280160" y="1628640"/>
              <a:ext cx="650880" cy="423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1"/>
            <p:cNvSpPr/>
            <p:nvPr/>
          </p:nvSpPr>
          <p:spPr>
            <a:xfrm>
              <a:off x="10280160" y="2085840"/>
              <a:ext cx="650880" cy="42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9660600" y="1128600"/>
              <a:ext cx="650880" cy="423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 Box 13"/>
            <p:cNvSpPr/>
            <p:nvPr/>
          </p:nvSpPr>
          <p:spPr>
            <a:xfrm>
              <a:off x="9633600" y="1585800"/>
              <a:ext cx="650880" cy="423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>
              <a:off x="9701280" y="128088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>
              <a:off x="9990720" y="1433520"/>
              <a:ext cx="289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>
              <a:off x="9674280" y="173808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>
              <a:off x="9674280" y="189072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>
              <a:off x="9701280" y="219564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>
              <a:off x="9701280" y="234792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>
              <a:off x="9990720" y="2652840"/>
              <a:ext cx="289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>
              <a:off x="9701280" y="280512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>
              <a:off x="9701280" y="311004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>
              <a:off x="9701280" y="3262320"/>
              <a:ext cx="578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24"/>
            <p:cNvSpPr/>
            <p:nvPr/>
          </p:nvSpPr>
          <p:spPr>
            <a:xfrm>
              <a:off x="9701280" y="1433520"/>
              <a:ext cx="28908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25"/>
            <p:cNvSpPr/>
            <p:nvPr/>
          </p:nvSpPr>
          <p:spPr>
            <a:xfrm>
              <a:off x="8977680" y="1585800"/>
              <a:ext cx="650880" cy="423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>
              <a:off x="9701280" y="128088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10280160" y="1171440"/>
              <a:ext cx="650880" cy="423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29"/>
            <p:cNvSpPr/>
            <p:nvPr/>
          </p:nvSpPr>
          <p:spPr>
            <a:xfrm>
              <a:off x="9701280" y="234792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>
              <a:off x="9628920" y="2652840"/>
              <a:ext cx="36144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>
              <a:off x="9918360" y="280512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>
              <a:off x="9701280" y="326232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 Box 33"/>
            <p:cNvSpPr/>
            <p:nvPr/>
          </p:nvSpPr>
          <p:spPr>
            <a:xfrm>
              <a:off x="10280160" y="2543040"/>
              <a:ext cx="650880" cy="423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34"/>
            <p:cNvSpPr/>
            <p:nvPr/>
          </p:nvSpPr>
          <p:spPr>
            <a:xfrm>
              <a:off x="10280160" y="2957400"/>
              <a:ext cx="1012680" cy="423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35"/>
            <p:cNvSpPr/>
            <p:nvPr/>
          </p:nvSpPr>
          <p:spPr>
            <a:xfrm>
              <a:off x="8254080" y="1280880"/>
              <a:ext cx="72324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36"/>
            <p:cNvSpPr/>
            <p:nvPr/>
          </p:nvSpPr>
          <p:spPr>
            <a:xfrm>
              <a:off x="10931400" y="1323720"/>
              <a:ext cx="79560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37"/>
            <p:cNvSpPr/>
            <p:nvPr/>
          </p:nvSpPr>
          <p:spPr>
            <a:xfrm>
              <a:off x="11148480" y="1323720"/>
              <a:ext cx="289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38"/>
            <p:cNvSpPr/>
            <p:nvPr/>
          </p:nvSpPr>
          <p:spPr>
            <a:xfrm>
              <a:off x="11365560" y="132372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39"/>
            <p:cNvSpPr/>
            <p:nvPr/>
          </p:nvSpPr>
          <p:spPr>
            <a:xfrm flipV="1">
              <a:off x="8398800" y="942840"/>
              <a:ext cx="216720" cy="1872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0"/>
            <p:cNvSpPr/>
            <p:nvPr/>
          </p:nvSpPr>
          <p:spPr>
            <a:xfrm flipV="1">
              <a:off x="8634240" y="747360"/>
              <a:ext cx="216720" cy="1807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1"/>
            <p:cNvSpPr/>
            <p:nvPr/>
          </p:nvSpPr>
          <p:spPr>
            <a:xfrm>
              <a:off x="9484200" y="56196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42"/>
            <p:cNvSpPr/>
            <p:nvPr/>
          </p:nvSpPr>
          <p:spPr>
            <a:xfrm>
              <a:off x="10135440" y="561960"/>
              <a:ext cx="289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43"/>
            <p:cNvSpPr/>
            <p:nvPr/>
          </p:nvSpPr>
          <p:spPr>
            <a:xfrm>
              <a:off x="8977680" y="1128600"/>
              <a:ext cx="650880" cy="42372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52"/>
            <p:cNvSpPr/>
            <p:nvPr/>
          </p:nvSpPr>
          <p:spPr>
            <a:xfrm>
              <a:off x="9010800" y="3398760"/>
              <a:ext cx="1440" cy="288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53"/>
            <p:cNvSpPr/>
            <p:nvPr/>
          </p:nvSpPr>
          <p:spPr>
            <a:xfrm>
              <a:off x="10925280" y="3398760"/>
              <a:ext cx="1440" cy="288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54"/>
            <p:cNvSpPr/>
            <p:nvPr/>
          </p:nvSpPr>
          <p:spPr>
            <a:xfrm>
              <a:off x="9010800" y="3687840"/>
              <a:ext cx="34200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55"/>
            <p:cNvSpPr/>
            <p:nvPr/>
          </p:nvSpPr>
          <p:spPr>
            <a:xfrm>
              <a:off x="9353160" y="3687840"/>
              <a:ext cx="4096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56"/>
            <p:cNvSpPr/>
            <p:nvPr/>
          </p:nvSpPr>
          <p:spPr>
            <a:xfrm>
              <a:off x="9763200" y="3687840"/>
              <a:ext cx="47772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57"/>
            <p:cNvSpPr/>
            <p:nvPr/>
          </p:nvSpPr>
          <p:spPr>
            <a:xfrm>
              <a:off x="10240920" y="3687840"/>
              <a:ext cx="274320" cy="14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58"/>
            <p:cNvSpPr/>
            <p:nvPr/>
          </p:nvSpPr>
          <p:spPr>
            <a:xfrm>
              <a:off x="10515240" y="3687840"/>
              <a:ext cx="40968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76120" y="1398600"/>
            <a:ext cx="70200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Юридична осо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дна з форм управлі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Добровільне створ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Не більше одного ОСББ в будин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Але можна одне на кілька будин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У новобудовах: лише після реєстрації права власності на &gt;50% кварт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Квартири та нежитлові приміщення, спільне майно в будинку не є власністю ОСБ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Статут, рахунок в бан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8077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440F-FE77-4212-BCE9-2AB89ACA556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208240" y="674640"/>
            <a:ext cx="7856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DejaVu Sans"/>
              </a:rPr>
              <a:t>ОСББ в 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  <a:ea typeface="DejaVu Sans"/>
              </a:rPr>
              <a:t>Украї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Группа 63"/>
          <p:cNvGrpSpPr/>
          <p:nvPr/>
        </p:nvGrpSpPr>
        <p:grpSpPr>
          <a:xfrm>
            <a:off x="7238880" y="858960"/>
            <a:ext cx="3810240" cy="3127320"/>
            <a:chOff x="7238880" y="858960"/>
            <a:chExt cx="3810240" cy="3127320"/>
          </a:xfrm>
        </p:grpSpPr>
        <p:sp>
          <p:nvSpPr>
            <p:cNvPr id="106" name="Line 1"/>
            <p:cNvSpPr/>
            <p:nvPr/>
          </p:nvSpPr>
          <p:spPr>
            <a:xfrm flipV="1">
              <a:off x="7238880" y="869400"/>
              <a:ext cx="1085040" cy="904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"/>
            <p:cNvSpPr/>
            <p:nvPr/>
          </p:nvSpPr>
          <p:spPr>
            <a:xfrm>
              <a:off x="8323920" y="858960"/>
              <a:ext cx="16639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3"/>
            <p:cNvSpPr/>
            <p:nvPr/>
          </p:nvSpPr>
          <p:spPr>
            <a:xfrm>
              <a:off x="9988200" y="858960"/>
              <a:ext cx="1060920" cy="8856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4"/>
            <p:cNvSpPr/>
            <p:nvPr/>
          </p:nvSpPr>
          <p:spPr>
            <a:xfrm>
              <a:off x="8179200" y="2340000"/>
              <a:ext cx="650880" cy="42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5"/>
            <p:cNvSpPr/>
            <p:nvPr/>
          </p:nvSpPr>
          <p:spPr>
            <a:xfrm>
              <a:off x="8179200" y="2797200"/>
              <a:ext cx="650880" cy="42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7817400" y="3254400"/>
              <a:ext cx="1012680" cy="423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8862120" y="2340000"/>
              <a:ext cx="650880" cy="423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8862120" y="3254400"/>
              <a:ext cx="650880" cy="423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9481680" y="1925640"/>
              <a:ext cx="650880" cy="423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9481680" y="2382840"/>
              <a:ext cx="650880" cy="423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8862120" y="1425600"/>
              <a:ext cx="650880" cy="423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8835120" y="1882800"/>
              <a:ext cx="650880" cy="423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8902800" y="157788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9192240" y="1730520"/>
              <a:ext cx="289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>
              <a:off x="8875800" y="203508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>
              <a:off x="8875800" y="218772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ine 18"/>
            <p:cNvSpPr/>
            <p:nvPr/>
          </p:nvSpPr>
          <p:spPr>
            <a:xfrm>
              <a:off x="8902800" y="249264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19"/>
            <p:cNvSpPr/>
            <p:nvPr/>
          </p:nvSpPr>
          <p:spPr>
            <a:xfrm>
              <a:off x="8902800" y="264492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0"/>
            <p:cNvSpPr/>
            <p:nvPr/>
          </p:nvSpPr>
          <p:spPr>
            <a:xfrm>
              <a:off x="9192240" y="2949840"/>
              <a:ext cx="289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1"/>
            <p:cNvSpPr/>
            <p:nvPr/>
          </p:nvSpPr>
          <p:spPr>
            <a:xfrm>
              <a:off x="8902800" y="310212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2"/>
            <p:cNvSpPr/>
            <p:nvPr/>
          </p:nvSpPr>
          <p:spPr>
            <a:xfrm>
              <a:off x="8902800" y="3407040"/>
              <a:ext cx="57852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3"/>
            <p:cNvSpPr/>
            <p:nvPr/>
          </p:nvSpPr>
          <p:spPr>
            <a:xfrm>
              <a:off x="8902800" y="3559320"/>
              <a:ext cx="578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>
              <a:off x="8902800" y="1730520"/>
              <a:ext cx="28908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25"/>
            <p:cNvSpPr/>
            <p:nvPr/>
          </p:nvSpPr>
          <p:spPr>
            <a:xfrm>
              <a:off x="8179200" y="1882800"/>
              <a:ext cx="650880" cy="42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8902800" y="157788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9481680" y="1468440"/>
              <a:ext cx="650880" cy="423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8902800" y="264492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8830440" y="2949840"/>
              <a:ext cx="36144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31"/>
            <p:cNvSpPr/>
            <p:nvPr/>
          </p:nvSpPr>
          <p:spPr>
            <a:xfrm>
              <a:off x="9119880" y="310212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32"/>
            <p:cNvSpPr/>
            <p:nvPr/>
          </p:nvSpPr>
          <p:spPr>
            <a:xfrm>
              <a:off x="8902800" y="355932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 Box 33"/>
            <p:cNvSpPr/>
            <p:nvPr/>
          </p:nvSpPr>
          <p:spPr>
            <a:xfrm>
              <a:off x="9481680" y="2840040"/>
              <a:ext cx="650880" cy="423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 Box 34"/>
            <p:cNvSpPr/>
            <p:nvPr/>
          </p:nvSpPr>
          <p:spPr>
            <a:xfrm>
              <a:off x="9481680" y="3254400"/>
              <a:ext cx="1012680" cy="423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35"/>
            <p:cNvSpPr/>
            <p:nvPr/>
          </p:nvSpPr>
          <p:spPr>
            <a:xfrm>
              <a:off x="7455600" y="1577880"/>
              <a:ext cx="72324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36"/>
            <p:cNvSpPr/>
            <p:nvPr/>
          </p:nvSpPr>
          <p:spPr>
            <a:xfrm>
              <a:off x="10132920" y="1620720"/>
              <a:ext cx="795600" cy="1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37"/>
            <p:cNvSpPr/>
            <p:nvPr/>
          </p:nvSpPr>
          <p:spPr>
            <a:xfrm>
              <a:off x="10350000" y="1620720"/>
              <a:ext cx="289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38"/>
            <p:cNvSpPr/>
            <p:nvPr/>
          </p:nvSpPr>
          <p:spPr>
            <a:xfrm>
              <a:off x="10567080" y="162072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39"/>
            <p:cNvSpPr/>
            <p:nvPr/>
          </p:nvSpPr>
          <p:spPr>
            <a:xfrm flipV="1">
              <a:off x="7600320" y="1239840"/>
              <a:ext cx="216720" cy="1872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40"/>
            <p:cNvSpPr/>
            <p:nvPr/>
          </p:nvSpPr>
          <p:spPr>
            <a:xfrm flipV="1">
              <a:off x="7835760" y="1044360"/>
              <a:ext cx="216720" cy="1807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41"/>
            <p:cNvSpPr/>
            <p:nvPr/>
          </p:nvSpPr>
          <p:spPr>
            <a:xfrm>
              <a:off x="8685720" y="858960"/>
              <a:ext cx="289080" cy="144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42"/>
            <p:cNvSpPr/>
            <p:nvPr/>
          </p:nvSpPr>
          <p:spPr>
            <a:xfrm>
              <a:off x="9336960" y="858960"/>
              <a:ext cx="289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43"/>
            <p:cNvSpPr/>
            <p:nvPr/>
          </p:nvSpPr>
          <p:spPr>
            <a:xfrm>
              <a:off x="8179200" y="1425600"/>
              <a:ext cx="650880" cy="42372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52"/>
            <p:cNvSpPr/>
            <p:nvPr/>
          </p:nvSpPr>
          <p:spPr>
            <a:xfrm>
              <a:off x="8212320" y="3695760"/>
              <a:ext cx="1440" cy="288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53"/>
            <p:cNvSpPr/>
            <p:nvPr/>
          </p:nvSpPr>
          <p:spPr>
            <a:xfrm>
              <a:off x="10126800" y="3695760"/>
              <a:ext cx="1440" cy="288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54"/>
            <p:cNvSpPr/>
            <p:nvPr/>
          </p:nvSpPr>
          <p:spPr>
            <a:xfrm>
              <a:off x="8212320" y="3984840"/>
              <a:ext cx="34200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Line 55"/>
            <p:cNvSpPr/>
            <p:nvPr/>
          </p:nvSpPr>
          <p:spPr>
            <a:xfrm>
              <a:off x="8554680" y="3984840"/>
              <a:ext cx="4096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Line 56"/>
            <p:cNvSpPr/>
            <p:nvPr/>
          </p:nvSpPr>
          <p:spPr>
            <a:xfrm>
              <a:off x="8964720" y="3984840"/>
              <a:ext cx="47772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Line 57"/>
            <p:cNvSpPr/>
            <p:nvPr/>
          </p:nvSpPr>
          <p:spPr>
            <a:xfrm>
              <a:off x="9442440" y="3984840"/>
              <a:ext cx="274320" cy="14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Line 58"/>
            <p:cNvSpPr/>
            <p:nvPr/>
          </p:nvSpPr>
          <p:spPr>
            <a:xfrm>
              <a:off x="9716760" y="3984840"/>
              <a:ext cx="40968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 Box 47"/>
          <p:cNvSpPr/>
          <p:nvPr/>
        </p:nvSpPr>
        <p:spPr>
          <a:xfrm>
            <a:off x="10401480" y="4146480"/>
            <a:ext cx="1295280" cy="3477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ержа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8821800" y="4168800"/>
            <a:ext cx="135108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муналь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7257960" y="4168800"/>
            <a:ext cx="137160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иват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711920" y="4734000"/>
            <a:ext cx="360396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 01.07.2015р. відсутне поняття «член», законодавство оперує терміном «співвлас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8077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0111-5F90-4ADF-B9C0-B8BD1F2C505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246400" y="500040"/>
            <a:ext cx="7772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DejaVu Sans"/>
              </a:rPr>
              <a:t>Створення ОСББ: основні к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Группа 1"/>
          <p:cNvGrpSpPr/>
          <p:nvPr/>
        </p:nvGrpSpPr>
        <p:grpSpPr>
          <a:xfrm>
            <a:off x="2119320" y="1768320"/>
            <a:ext cx="8026560" cy="4030920"/>
            <a:chOff x="2119320" y="1768320"/>
            <a:chExt cx="8026560" cy="4030920"/>
          </a:xfrm>
        </p:grpSpPr>
        <p:sp>
          <p:nvSpPr>
            <p:cNvPr id="161" name="Text Box 1"/>
            <p:cNvSpPr/>
            <p:nvPr/>
          </p:nvSpPr>
          <p:spPr>
            <a:xfrm>
              <a:off x="2119320" y="1768320"/>
              <a:ext cx="80265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uk-UA" sz="2800" spc="-1" strike="noStrike">
                  <a:solidFill>
                    <a:srgbClr val="000000"/>
                  </a:solidFill>
                  <a:latin typeface="Arial Narrow"/>
                  <a:ea typeface="DejaVu Sans"/>
                </a:rPr>
                <a:t>Створення ініціативної груп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2225520" y="2401560"/>
              <a:ext cx="7633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216000"/>
                  <a:tab algn="l" pos="1130400"/>
                  <a:tab algn="l" pos="2044800"/>
                  <a:tab algn="l" pos="2959200"/>
                  <a:tab algn="l" pos="3873600"/>
                  <a:tab algn="l" pos="4788000"/>
                  <a:tab algn="l" pos="5702400"/>
                  <a:tab algn="l" pos="6616800"/>
                  <a:tab algn="l" pos="7531200"/>
                  <a:tab algn="l" pos="8445600"/>
                  <a:tab algn="l" pos="9360000"/>
                  <a:tab algn="l" pos="10274400"/>
                </a:tabLst>
              </a:pPr>
              <a:r>
                <a:rPr b="0" lang="uk-UA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Визначення кола власників жилих та нежилих приміщень у будинку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2225520" y="3483000"/>
              <a:ext cx="7199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216000"/>
                  <a:tab algn="l" pos="1130400"/>
                  <a:tab algn="l" pos="2044800"/>
                  <a:tab algn="l" pos="2959200"/>
                  <a:tab algn="l" pos="3873600"/>
                  <a:tab algn="l" pos="4788000"/>
                  <a:tab algn="l" pos="5702400"/>
                  <a:tab algn="l" pos="6616800"/>
                  <a:tab algn="l" pos="7531200"/>
                  <a:tab algn="l" pos="8445600"/>
                  <a:tab algn="l" pos="9360000"/>
                  <a:tab algn="l" pos="10274400"/>
                </a:tabLst>
              </a:pPr>
              <a:r>
                <a:rPr b="0" lang="uk-UA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Скликання установчих зборі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225520" y="4130640"/>
              <a:ext cx="7344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216000"/>
                  <a:tab algn="l" pos="1130400"/>
                  <a:tab algn="l" pos="2044800"/>
                  <a:tab algn="l" pos="2959200"/>
                  <a:tab algn="l" pos="3873600"/>
                  <a:tab algn="l" pos="4788000"/>
                  <a:tab algn="l" pos="5702400"/>
                  <a:tab algn="l" pos="6616800"/>
                  <a:tab algn="l" pos="7531200"/>
                  <a:tab algn="l" pos="8445600"/>
                  <a:tab algn="l" pos="9360000"/>
                  <a:tab algn="l" pos="10274400"/>
                </a:tabLst>
              </a:pPr>
              <a:r>
                <a:rPr b="0" lang="uk-UA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Проведення установчих зборі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2225520" y="5281920"/>
              <a:ext cx="7415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216000"/>
                  <a:tab algn="l" pos="1130400"/>
                  <a:tab algn="l" pos="2044800"/>
                  <a:tab algn="l" pos="2959200"/>
                  <a:tab algn="l" pos="3873600"/>
                  <a:tab algn="l" pos="4788000"/>
                  <a:tab algn="l" pos="5702400"/>
                  <a:tab algn="l" pos="6616800"/>
                  <a:tab algn="l" pos="7531200"/>
                  <a:tab algn="l" pos="8445600"/>
                  <a:tab algn="l" pos="9360000"/>
                  <a:tab algn="l" pos="10274400"/>
                </a:tabLst>
              </a:pPr>
              <a:r>
                <a:rPr b="0" lang="uk-UA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Підготовка установчих документів до реєстраці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2404800" y="4633920"/>
              <a:ext cx="7344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[Проведення письмового опитування]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982880" y="1873080"/>
            <a:ext cx="8026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Складається з не менш як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 Narrow"/>
                <a:ea typeface="DejaVu Sans"/>
              </a:rPr>
              <a:t>трьох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 власників квартир або нежитлових приміщ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Забезпечує підготовку, скликання і проведення установчих зб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Бажано вести протоколи засідань (1-й протокол підтверджує факт створення ініціативної груп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Доцільно повідомити міському голові про створення ініціативної групи та просити про сприя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077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3DB-99DA-414E-891F-4E35DF84708A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982880" y="457200"/>
            <a:ext cx="7772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DejaVu Sans"/>
              </a:rPr>
              <a:t>Ініціативна гр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2016000" y="2335320"/>
            <a:ext cx="802656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Інформаційна довідка з Державного реєстру речових прав на нерухоме май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Інформація від БТ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Інформація від самих співвласни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077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88B3-E770-476D-AEEC-269678F3E64E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116080" y="723960"/>
            <a:ext cx="7772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DejaVu Sans"/>
              </a:rPr>
              <a:t>Визначення кола співвласник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062080" y="1776240"/>
            <a:ext cx="8026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Статут є установчим документом юридичної особи відповідно до вимог Цивільного кодексу та інших нормативних а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овинен відповідати </a:t>
            </a:r>
            <a:r>
              <a:rPr b="1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Типовому статуту ОСББ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 (затверджений наказом ДЖКГ № 141 від 27.07.2003 р., в редакції наказу Мінрегіону № 238 від 23.09.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Може містити інші відомості, відмінні від положень Типового стату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Розподіл майна при ліквідації - проблему виріше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8077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82B6-0EBA-429E-8D7C-5EA132A3320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062080" y="538200"/>
            <a:ext cx="7772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DejaVu Sans"/>
              </a:rPr>
              <a:t>Підготовка проекту стату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008080" y="1803240"/>
            <a:ext cx="8026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Можна по-своєму визначити принцип розподілу голосів на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 Narrow"/>
                <a:ea typeface="DejaVu Sans"/>
              </a:rPr>
              <a:t>загальних</a:t>
            </a:r>
            <a:r>
              <a:rPr b="1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 збор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Можна по-своєму визначити перелік рішень, що повідомляються під розписку / рекомендованим лис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Можна уточнити порядок обрання і компетенцію органів управління ОСБ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Можна уточнити порядок письмового опит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  <a:ea typeface="DejaVu Sans"/>
              </a:rPr>
              <a:t>Можна уточнити “процедурні” пит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077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A04-EE21-4323-BC45-E0B25B76F98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008080" y="538200"/>
            <a:ext cx="85899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DejaVu Sans"/>
              </a:rPr>
              <a:t>Підготовка проекту статуту (продовжен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08:10:02Z</dcterms:created>
  <dc:creator>VP</dc:creator>
  <dc:description/>
  <dc:language>en-US</dc:language>
  <cp:lastModifiedBy>VP</cp:lastModifiedBy>
  <dcterms:modified xsi:type="dcterms:W3CDTF">2016-04-02T11:21:52Z</dcterms:modified>
  <cp:revision>20</cp:revision>
  <dc:subject/>
  <dc:title>СТВОРЕННЯ ОСББ</dc:title>
</cp:coreProperties>
</file>