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ABEA-C0D3-479D-8012-2A84E92D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1A58-B682-40D5-BAAB-1A14A22E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6E35-01F9-4976-A9C1-24C60DBF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FB77-F4F8-47DA-B21C-AA7E2103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CF2-E526-4709-A06D-ACD09AF2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735-DEE2-42A7-92EC-3B703D0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E325-0D9F-49B5-9334-59CB2C3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415-B58E-409B-85F7-6CA72EA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2829-DBED-478E-BF4E-DA87D763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D3F-DC10-4041-BBBC-3BF9F3A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FEE-3294-4913-8029-F08C952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698B-9BCE-4DD3-9689-7C46D4CF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1EF0-05E9-4E9D-A0D9-3251CA5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4B8-F6EE-417E-882A-880B00A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295F-9DB4-4A0A-9A0C-D33E89F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2CB-7B7D-488E-B39A-2B0B130D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AF4-4BF7-4A25-B7BB-5C6CCCDE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E335-05C5-4C11-ADBD-808C7DAE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C27F-CFD2-49DB-AE2C-D03A85E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A39E-C1DB-41BC-AA7E-4A8CDF8F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532C-55C8-440E-9A66-742A3C7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9080-F547-4152-B8BE-C83B936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17F9-414D-4196-8B7B-0A9EFD0E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846F-B58B-4517-BE65-6BF2FA9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CA2-3E9D-4FDD-91F9-C9B4464C26B5}" type="slidenum">
              <a:rPr b="0" lang="en-US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FC2-EAB4-4150-8223-97D3BCD2BD03}" type="slidenum">
              <a:rPr b="0" lang="en-US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94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96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97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99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9c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9cad"/>
                </a:solidFill>
                <a:latin typeface="Times New Roman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3.01.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878040" y="1616040"/>
            <a:ext cx="83152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4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Що відбувається в містах: м. Тернопіль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74" name="Схема 7" descr=""/>
          <p:cNvPicPr/>
          <p:nvPr/>
        </p:nvPicPr>
        <p:blipFill>
          <a:blip r:embed="rId1"/>
          <a:stretch/>
        </p:blipFill>
        <p:spPr>
          <a:xfrm>
            <a:off x="341280" y="950760"/>
            <a:ext cx="8217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План дій сталого енергетичного розвитку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Мета : скоротити до 2020 на 20 % рівень викидів CO2 шляхом реалізації заходів, запланованих в Плані дій щодо сталого енергетичного розвитку (</a:t>
            </a:r>
            <a:r>
              <a:rPr b="0" lang="en-US" sz="2200" spc="-1" strike="noStrike">
                <a:solidFill>
                  <a:srgbClr val="342e2c"/>
                </a:solidFill>
                <a:latin typeface="Calibri"/>
              </a:rPr>
              <a:t>SEAP</a:t>
            </a: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) міста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1163520" y="2349360"/>
            <a:ext cx="7080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763560" y="0"/>
            <a:ext cx="74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Питома вага  викидів СО2 відповідно до джерел емісії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79" name="Диаграмма 6" descr=""/>
          <p:cNvPicPr/>
          <p:nvPr/>
        </p:nvPicPr>
        <p:blipFill>
          <a:blip r:embed="rId1"/>
          <a:stretch/>
        </p:blipFill>
        <p:spPr>
          <a:xfrm>
            <a:off x="463680" y="950760"/>
            <a:ext cx="828972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5"/>
          <p:cNvSpPr/>
          <p:nvPr/>
        </p:nvSpPr>
        <p:spPr>
          <a:xfrm>
            <a:off x="814320" y="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аходи у секторі житлових будівель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78000" y="523800"/>
          <a:ext cx="8353080" cy="6126120"/>
        </p:xfrm>
        <a:graphic>
          <a:graphicData uri="http://schemas.openxmlformats.org/drawingml/2006/table">
            <a:tbl>
              <a:tblPr/>
              <a:tblGrid>
                <a:gridCol w="436320"/>
                <a:gridCol w="3740040"/>
                <a:gridCol w="4176720"/>
              </a:tblGrid>
              <a:tr h="17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Заходи, що направленні на відновлення  будівель і інженерних систем житлових будинків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роведення капітальних ремонтів: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 Ремонт покрівель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 Ремонт та заміна внутрішньобудинкових інженерних мереж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 Ремонт міжпанельних швів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 Ремонт фасадів та виступаючих конструкцій будинків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 Заміна нагрівальних приладів та інше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Заходи пропонується проводити у будинках, в яких планується встановлення чи вже встановлено ІТП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ереведення домогосподарств на енергоощадні пристрої освітлення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Використання енергозберігаючих ламп у власних оселях мешканців будинків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Комплексна термосанація  25 житлових будинків, в тому числі будинків ОСББ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1. Утеплення фасадів, дахів, цоколів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2. Заміна вікон на енергоефектині;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3. Промивка, гідравлічне балансування системи опалення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4.Заміна вікон на сходових клітинах  вхідних груп дверей;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5.Відновлення теплової ізоляції трубопроводів та інше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Заходи пропонується проводити у будинках, в яких планується встановлення ІТП в рамках інших проектів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Встановлення ІТП у житлових будинках </a:t>
                      </a:r>
                      <a:r>
                        <a:rPr b="1" lang="uk-UA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в рамках Проекту модернізації котельні за адресою вул. Купчинського, 14а)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Встановлення ІТП у 10 житлових будинках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роект реконструкції системи централізованого теплопостачання котельні по вул. Київська,3а з влаштуванням автоматизованих ІТП у всіх житлових будинках </a:t>
                      </a:r>
                      <a:r>
                        <a:rPr b="1" lang="uk-UA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в рамках Проекту реконструкції системи теплопостачання м. Тернопіль)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Встановлення 140 ІТП з погодозалежним регулюванням на потреби опалення та гарячого водопостачання на рівні будинків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ри встановленні ІТП центральні теплові пункти (ЦТП) повинні бути виведеними з експлуатації. За рахунок цього компанія може одночасно перейти від використання 4-ох трубної системи розподільчих теплових мереж до 2-ох трубної системи розподільчих теплових мереж при наданні послуг з опалення та гарячого водопостачання. 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5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аходи у секторі житлових будівель (продовження)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8000" y="836640"/>
          <a:ext cx="8353080" cy="5761080"/>
        </p:xfrm>
        <a:graphic>
          <a:graphicData uri="http://schemas.openxmlformats.org/drawingml/2006/table">
            <a:tbl>
              <a:tblPr/>
              <a:tblGrid>
                <a:gridCol w="436320"/>
                <a:gridCol w="3740040"/>
                <a:gridCol w="4176720"/>
              </a:tblGrid>
              <a:tr h="19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роект влаштування ІТП та лічильників тепла </a:t>
                      </a:r>
                      <a:r>
                        <a:rPr b="1" lang="uk-UA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в рамках Проекту підвищення енергоефективності в секторі централізованого тепло постачання України)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Влаштування індивідуальних теплових пунктах з погодозалежним регулюванням та встановлення лічильників тепла. Загалом передбачається встановлення 311 ІТП: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	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о вул. Л.Українки,4 -  93 од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	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о вул. Просвіти, 9 - 43 од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	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о вул. Дружби, 9а - 79 од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	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о вул. Живова, 12 - 49 од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	</a:t>
                      </a: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о вул. Лемківська, 23 - 47 од.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661f1e"/>
                          </a:solidFill>
                          <a:latin typeface="Calibri"/>
                        </a:rPr>
                        <a:t>Проект комплексної термомодернізації 9-ти житлових будинків (р-н «Новий Світ»)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1. Термомодернізація огороджувальних конструкцій (фасади, покрівля, перекриття над підвалом);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2. Заміна вікон на енергоефективні;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3. Улаштування ІТП та засобів обліку;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4.Улаштування централізованої примусової витяжної вентиляції;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5. Улаштування система автоматизованого моніторингу та управління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Проведення просвітницько -інформаційних компаній для житлового фонду </a:t>
                      </a:r>
                      <a:r>
                        <a:rPr b="1" lang="uk-UA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в рамках Державної програми підтримки енергоефективних проектів)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c1511"/>
                          </a:solidFill>
                          <a:latin typeface="Calibri"/>
                        </a:rPr>
                        <a:t>Інформування населення щодо використання у побуті енергозберігаючих приладів та побутової техніки (планується, що за результатами інформування населення буде переходи на застосування побутової техніки класу А, А++  і вище); проведення роз’яснювальної роботи щодо необхідності встановлення вікон в оселях відповідно до  вимог ДБН України (планується, що за результатами інформування населення буде встановлювати нові вікна з коефіцієнтом R &gt;=0,75);  проведення роз’яснювальної роботи щодо необхідності встановлення засобів обліку та регулювання енергії; інші заходи направлені на підвищення технічної обізнаності мешканців</a:t>
                      </a:r>
                      <a:endParaRPr b="0" lang="en-US" sz="12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9"/>
          <p:cNvSpPr/>
          <p:nvPr/>
        </p:nvSpPr>
        <p:spPr>
          <a:xfrm>
            <a:off x="324000" y="1609560"/>
            <a:ext cx="8461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Будинки живляться від однієї котельні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Відстань об'єктів від джерела енергії (котельні) в основному не більше 1000 м і тому може бути досягнуто мінімальні втрати при транспортуванні теплової енергії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Будівлі побудовані переважно до 1994 року і мають не нормативно великі тепловтрати крізь огороджувальні конструкції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Технічний стан будівель зазвичай задовільний і не потребує значних коштів на додаткові ремонтно-відновлювальні роботи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42e2c"/>
                </a:solidFill>
                <a:latin typeface="Calibri"/>
              </a:rPr>
              <a:t>Котельні, до яких підключено будівлі, можуть бути модернізовано з переходом на альтернативні (поновлювані) джерела енергії та працювати в автономному режимі. </a:t>
            </a: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814320" y="189000"/>
            <a:ext cx="748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мплексні рішення: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Проект комплексної термомодернізації 9-ти житлових будинків (р-н «Новий Світ»), м. Тернопіль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2"/>
          <p:cNvSpPr/>
          <p:nvPr/>
        </p:nvSpPr>
        <p:spPr>
          <a:xfrm>
            <a:off x="1150920" y="5262480"/>
            <a:ext cx="5400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4d5b6b"/>
                </a:solidFill>
                <a:uFillTx/>
                <a:latin typeface="Arial"/>
              </a:rPr>
              <a:t>Умовні позначки:</a:t>
            </a:r>
            <a:endParaRPr b="0" lang="en-US" sz="16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d5b6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4d5b6b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4d5b6b"/>
                </a:solidFill>
                <a:latin typeface="Arial"/>
              </a:rPr>
              <a:t>житлові будинки </a:t>
            </a:r>
            <a:endParaRPr b="0" lang="en-US" sz="16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d5b6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5b6b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4d5b6b"/>
                </a:solidFill>
                <a:latin typeface="Arial"/>
              </a:rPr>
              <a:t>об'єкти бюджетної сфери</a:t>
            </a:r>
            <a:endParaRPr b="0" lang="en-US" sz="16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d5b6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4d5b6b"/>
                </a:solidFill>
                <a:latin typeface="Arial"/>
              </a:rPr>
              <a:t>котельня від якої живляться всі будинки</a:t>
            </a:r>
            <a:endParaRPr b="0" lang="en-US" sz="16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92040" y="5646600"/>
            <a:ext cx="684360" cy="250920"/>
          </a:xfrm>
          <a:prstGeom prst="rect">
            <a:avLst/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92040" y="6437160"/>
            <a:ext cx="684360" cy="250920"/>
          </a:xfrm>
          <a:prstGeom prst="rect">
            <a:avLst/>
          </a:prstGeom>
          <a:solidFill>
            <a:srgbClr val="ff33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89" name="Picture 15" descr="F:\Д О Г О В О Р А\ДОГ№394 ТЕНДЕР 2010\Тернополь микрорайон\ПредТЕО\Исх.данные\____________2_16_____f2.JPG"/>
          <p:cNvPicPr/>
          <p:nvPr/>
        </p:nvPicPr>
        <p:blipFill>
          <a:blip r:embed="rId1"/>
          <a:stretch/>
        </p:blipFill>
        <p:spPr>
          <a:xfrm>
            <a:off x="539640" y="404640"/>
            <a:ext cx="8269560" cy="46087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"/>
          <p:cNvSpPr/>
          <p:nvPr/>
        </p:nvSpPr>
        <p:spPr>
          <a:xfrm>
            <a:off x="392040" y="6040440"/>
            <a:ext cx="684360" cy="250920"/>
          </a:xfrm>
          <a:prstGeom prst="rect">
            <a:avLst/>
          </a:prstGeom>
          <a:solidFill>
            <a:srgbClr val="009242"/>
          </a:solidFill>
          <a:ln w="31680">
            <a:solidFill>
              <a:srgbClr val="009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oup 432" descr=""/>
          <p:cNvPicPr/>
          <p:nvPr/>
        </p:nvPicPr>
        <p:blipFill>
          <a:blip r:embed="rId1"/>
          <a:stretch/>
        </p:blipFill>
        <p:spPr>
          <a:xfrm>
            <a:off x="165240" y="738360"/>
            <a:ext cx="6613560" cy="4924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19"/>
          <p:cNvSpPr/>
          <p:nvPr/>
        </p:nvSpPr>
        <p:spPr>
          <a:xfrm>
            <a:off x="431640" y="2570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5b6b"/>
                </a:solidFill>
                <a:latin typeface="Arial"/>
              </a:rPr>
              <a:t>Роки побудови – 1960…1988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93" name="Picture 433" descr="1"/>
          <p:cNvPicPr/>
          <p:nvPr/>
        </p:nvPicPr>
        <p:blipFill>
          <a:blip r:embed="rId2"/>
          <a:stretch/>
        </p:blipFill>
        <p:spPr>
          <a:xfrm>
            <a:off x="7182000" y="285840"/>
            <a:ext cx="1715760" cy="129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4" descr="2"/>
          <p:cNvPicPr/>
          <p:nvPr/>
        </p:nvPicPr>
        <p:blipFill>
          <a:blip r:embed="rId3"/>
          <a:stretch/>
        </p:blipFill>
        <p:spPr>
          <a:xfrm>
            <a:off x="6797520" y="1390680"/>
            <a:ext cx="2100240" cy="2873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36" descr="4"/>
          <p:cNvPicPr/>
          <p:nvPr/>
        </p:nvPicPr>
        <p:blipFill>
          <a:blip r:embed="rId4"/>
          <a:srcRect l="0" t="0" r="0" b="8156"/>
          <a:stretch/>
        </p:blipFill>
        <p:spPr>
          <a:xfrm>
            <a:off x="7726320" y="3316320"/>
            <a:ext cx="146376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4830840" y="580536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4d5b6b"/>
                </a:solidFill>
                <a:uFillTx/>
                <a:latin typeface="Times New Roman"/>
                <a:ea typeface="Times New Roman"/>
              </a:rPr>
              <a:t>Мережі теплопостачання: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Тип прокладання – підземний, канальний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Загальна довжина – 4860 м.п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5826240"/>
          <a:ext cx="4465440" cy="990360"/>
        </p:xfrm>
        <a:graphic>
          <a:graphicData uri="http://schemas.openxmlformats.org/drawingml/2006/table">
            <a:tbl>
              <a:tblPr/>
              <a:tblGrid>
                <a:gridCol w="2068560"/>
                <a:gridCol w="1093680"/>
                <a:gridCol w="1303200"/>
              </a:tblGrid>
              <a:tr h="39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закладу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овість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лювальний об’єм, м³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шкільний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заклад №5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8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оосвітня школа №2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9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68360" y="1012680"/>
          <a:ext cx="8496360" cy="5791320"/>
        </p:xfrm>
        <a:graphic>
          <a:graphicData uri="http://schemas.openxmlformats.org/drawingml/2006/table">
            <a:tbl>
              <a:tblPr/>
              <a:tblGrid>
                <a:gridCol w="2663640"/>
                <a:gridCol w="1384560"/>
                <a:gridCol w="1044360"/>
                <a:gridCol w="1121040"/>
                <a:gridCol w="1122120"/>
                <a:gridCol w="1160640"/>
              </a:tblGrid>
              <a:tr h="862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Об'єкти (житлові будинки, бюджетні установи, мережі теплопостачання)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итрати до термо-модернізації, 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Гкал за 1 опалювальний період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итрати теплової енергії за варіантами термомодернізації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та економія від реалізації заходів,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Гкал  за 1 опалювальний період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аріант 1 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аріант 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економія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економія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 Новий Світ, 1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 12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731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38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63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481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 Новий Світ, 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41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50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0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5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6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 Новий Світ, 16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39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9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0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3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5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 Д.Нечая, 29 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 49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8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61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69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 Д.Нечая, 3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31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3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39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9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3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Транспортна,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50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8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2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06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Транспортна,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3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1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2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7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5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Транспортна,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5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3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8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ул.Транспортна,1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6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5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4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0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8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ередня школа №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0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7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7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Дошкільний навчальний заклад №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7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2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2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Теплові мережі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 171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7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99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79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99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СЬОГО</a:t>
                      </a:r>
                      <a:r>
                        <a:rPr b="1" lang="uk-UA" sz="10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: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5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92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</a:t>
                      </a:r>
                      <a:r>
                        <a:rPr b="1" lang="en-US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73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956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08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99" name="Прямоугольник 5"/>
          <p:cNvSpPr/>
          <p:nvPr/>
        </p:nvSpPr>
        <p:spPr>
          <a:xfrm>
            <a:off x="395280" y="586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Результати енергетичних</a:t>
            </a:r>
            <a:br>
              <a:rPr sz="2800"/>
            </a:b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розрахунків за 2-ма варіантами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Що відбувається в містах: м. Луцьк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95280" y="763560"/>
            <a:ext cx="846144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У виконавчому комітеті Луцької міської ради сформовано відділ підтримки у створенні ОСББ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Прийнято Програму проведення капітальних ремонтів у будинках ОСББ в частині дольової участі 70% - 80% міського бюджету від загальної вартості 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Прийнято  Програму відшкодування відсоткових ставок за залученими ОСББ кредитами у банківських установах ( 2 облікові ставки НБУ)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Створено громадську організацію – Рада голів ОСББ м. Луцька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Більшість українців живуть у будинках з незадовільним станом, ходять до шкіл та працюють у місцях, умови в яких погіршуються з кожним днем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Житло для більшості людей є головним та єдиним фінансовим активом. Вони не зможуть нічим його замінити, якщо його зруйнувати.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У розвинутих країнах населення витрачає 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5-7% </a:t>
            </a: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свого доходу на оплату комунальних послуг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. </a:t>
            </a: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В Україні вона становить 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&gt;20-</a:t>
            </a: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50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%</a:t>
            </a: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, якщо не брати до уваги субсидії. Все, що за ці гроші отримують мешканці та громада, це лише гаряче повітря для “продувки” своїх будинків</a:t>
            </a:r>
            <a:r>
              <a:rPr b="0" lang="en-US" sz="2400" spc="-1" strike="noStrike">
                <a:solidFill>
                  <a:srgbClr val="262e35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Актуальний стан будівельного фонду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63560" y="1628280"/>
            <a:ext cx="3524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75d59"/>
                </a:solidFill>
                <a:latin typeface="Calibri"/>
              </a:rPr>
              <a:t>Рішенням виконавчого комітету створено комісію по відбору проектів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75d59"/>
                </a:solidFill>
                <a:latin typeface="Calibri"/>
              </a:rPr>
              <a:t>Проведення засідання комісії – прийняття рішення про виділення коштів з міського бюджету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75d59"/>
                </a:solidFill>
                <a:latin typeface="Calibri"/>
              </a:rPr>
              <a:t>Відкриття розрахункового рахунку у казначейській службі на суму виділених коштів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75d59"/>
                </a:solidFill>
                <a:latin typeface="Calibri"/>
              </a:rPr>
              <a:t>Отримання коштів з міського бюджету в частині 30% , перерахування  власної дольової участі в частині 20-30%, отримання залишку виділених коштів з бюджету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203" name="Picture 2" descr="C:\Documents and Settings\User\Рабочий стол\заявка.jpg"/>
          <p:cNvPicPr/>
          <p:nvPr/>
        </p:nvPicPr>
        <p:blipFill>
          <a:blip r:embed="rId1"/>
          <a:stretch/>
        </p:blipFill>
        <p:spPr>
          <a:xfrm>
            <a:off x="5224320" y="1628640"/>
            <a:ext cx="3668760" cy="50356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763560" y="260280"/>
            <a:ext cx="74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Програма проведення капітальних ремонтів у будинках ОСББ в частині дольової участі 70% - 80% міського бюджету від загальної вартості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G:\Гурт\P1010028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46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4"/>
          <p:cNvSpPr/>
          <p:nvPr/>
        </p:nvSpPr>
        <p:spPr>
          <a:xfrm>
            <a:off x="826920" y="42840"/>
            <a:ext cx="74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Програма проведення капітальних ремонтів у будинках ОСББ в частині дольової участі 70% - 80% міського бюджету від загальної вартості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755640" y="333360"/>
            <a:ext cx="74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Програма відшкодування  відсоткових ставок для ОСББ при залучених кредитах у банківських установах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68360" y="1341360"/>
            <a:ext cx="8461440" cy="76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Подання у відділ сприяння створенню ОСББ при Луцькому виконавчому комітеті заявки про намір участі у Програмі з підтверджуючим документами про залучення кредитних коштів.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Укладення угоди між об'єднанням  та відділом сприяння створенню ОСББ виконавчого комітету Луцької міської ради про щомісячне повернення коштів згідно затверджених графіків банківською установою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42e2c"/>
                </a:solidFill>
                <a:latin typeface="Calibri"/>
              </a:rPr>
              <a:t>Повернення  коштів на р/р ОСББ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хема 2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242200" cy="463248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755640" y="333360"/>
            <a:ext cx="74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Схематичне зображення отриманих позик для  ОСББ м. Луцька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3"/>
          <p:cNvSpPr/>
          <p:nvPr/>
        </p:nvSpPr>
        <p:spPr>
          <a:xfrm>
            <a:off x="758880" y="115920"/>
            <a:ext cx="748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Позики для ОСББ банківськими установами надаватись можуть безперешкодно за умов: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95280" y="968400"/>
            <a:ext cx="8461440" cy="76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Відсутність застави.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Фіксована сума кредиту та відсотків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Відстрочка оплати за тілом кредиту на 6 місяців після завершення виконання робіт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Відстрочка оплати % за кредитом на 1 місяць після завершення виконання робіт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Термін кредиту –  5-10 років.;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buClr>
                <a:srgbClr val="262e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62e35"/>
                </a:solidFill>
                <a:latin typeface="Calibri"/>
              </a:rPr>
              <a:t>Програми підтримки розвитку ОСББ (державна та місцева):</a:t>
            </a:r>
            <a:endParaRPr b="0" lang="en-US" sz="2600" spc="-1" strike="noStrike">
              <a:solidFill>
                <a:srgbClr val="4d5b6b"/>
              </a:solidFill>
              <a:latin typeface="Calibri"/>
            </a:endParaRPr>
          </a:p>
          <a:p>
            <a:pPr lvl="2" marL="800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62e35"/>
                </a:solidFill>
                <a:latin typeface="Calibri"/>
              </a:rPr>
              <a:t>- відшкодування відсоткових ставок за    залученими кредитами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lvl="2" marL="800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62e35"/>
                </a:solidFill>
                <a:latin typeface="Calibri"/>
              </a:rPr>
              <a:t>- погашення частини тіла кредиту 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4d5b6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762120" y="1676520"/>
            <a:ext cx="1600200" cy="83808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666880" y="2514600"/>
            <a:ext cx="2971800" cy="83808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743200" y="3505320"/>
            <a:ext cx="2590920" cy="60948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562720" y="4114800"/>
            <a:ext cx="2743200" cy="60948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562720" y="4876920"/>
            <a:ext cx="2743200" cy="68580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876240" y="181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Державний бюджет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2438280" y="1905120"/>
            <a:ext cx="304920" cy="6094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5638680" y="2209680"/>
            <a:ext cx="533520" cy="45720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2895480" y="2612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Державна фінансова установа (НБУ, фонд)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2951280" y="3657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Комерційний банк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1116000" y="4495680"/>
            <a:ext cx="3227400" cy="83844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5b6b"/>
                </a:solidFill>
                <a:latin typeface="Calibri"/>
              </a:rPr>
              <a:t>                  </a:t>
            </a:r>
            <a:r>
              <a:rPr b="1" lang="uk-UA" sz="3200" spc="-1" strike="noStrike">
                <a:solidFill>
                  <a:srgbClr val="342e2c"/>
                </a:solidFill>
                <a:latin typeface="Calibri"/>
              </a:rPr>
              <a:t>ОСББ</a:t>
            </a:r>
            <a:endParaRPr b="0" lang="en-US" sz="3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562720" y="4876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Міський бюджет відшкодування %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5706000" y="41148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Держбюджет 40% на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матеріали для ОСББ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4419720" y="3352680"/>
            <a:ext cx="0" cy="15264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8" name="Line 20"/>
          <p:cNvSpPr/>
          <p:nvPr/>
        </p:nvSpPr>
        <p:spPr>
          <a:xfrm flipH="1">
            <a:off x="3200400" y="4114800"/>
            <a:ext cx="457200" cy="3808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29" name="Line 21"/>
          <p:cNvSpPr/>
          <p:nvPr/>
        </p:nvSpPr>
        <p:spPr>
          <a:xfrm flipH="1" flipV="1">
            <a:off x="4267080" y="4114800"/>
            <a:ext cx="1371600" cy="3808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0" name="Line 22"/>
          <p:cNvSpPr/>
          <p:nvPr/>
        </p:nvSpPr>
        <p:spPr>
          <a:xfrm flipH="1">
            <a:off x="4343040" y="5105520"/>
            <a:ext cx="1219320" cy="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1" name="Line 23"/>
          <p:cNvSpPr/>
          <p:nvPr/>
        </p:nvSpPr>
        <p:spPr>
          <a:xfrm flipV="1">
            <a:off x="2819520" y="4114800"/>
            <a:ext cx="457200" cy="3808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2" name="Line 24"/>
          <p:cNvSpPr/>
          <p:nvPr/>
        </p:nvSpPr>
        <p:spPr>
          <a:xfrm flipV="1">
            <a:off x="3657600" y="3352680"/>
            <a:ext cx="0" cy="15264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3" name="Line 25"/>
          <p:cNvSpPr/>
          <p:nvPr/>
        </p:nvSpPr>
        <p:spPr>
          <a:xfrm flipH="1" flipV="1">
            <a:off x="2361960" y="1904760"/>
            <a:ext cx="1143000" cy="6094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72200" y="1752480"/>
            <a:ext cx="2438280" cy="685800"/>
          </a:xfrm>
          <a:prstGeom prst="rect">
            <a:avLst/>
          </a:prstGeom>
          <a:gradFill rotWithShape="0">
            <a:gsLst>
              <a:gs pos="0">
                <a:srgbClr val="ffa378"/>
              </a:gs>
              <a:gs pos="100000">
                <a:srgbClr val="ffe3d7"/>
              </a:gs>
            </a:gsLst>
            <a:lin ang="16200000"/>
          </a:gradFill>
          <a:ln w="9360">
            <a:solidFill>
              <a:srgbClr val="ff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Грантові кошти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2e2c"/>
                </a:solidFill>
                <a:latin typeface="Calibri"/>
              </a:rPr>
              <a:t>міжнародних донорів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5" name="Прямоугольник 43"/>
          <p:cNvSpPr/>
          <p:nvPr/>
        </p:nvSpPr>
        <p:spPr>
          <a:xfrm>
            <a:off x="808200" y="31608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станова КМУ  № 231 від 08.04.2015 року</a:t>
            </a: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5"/>
          <p:cNvSpPr/>
          <p:nvPr/>
        </p:nvSpPr>
        <p:spPr>
          <a:xfrm>
            <a:off x="808200" y="31608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Дорожня карта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95280" y="777960"/>
            <a:ext cx="8461440" cy="85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Рада правління ОСББ проводить аналіз сплачених коштів за послугу опалення за попередній опалювальний період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проводить загальні збори, приймає рішення про встановлення енергозберігаючого обладнання за згодою власників згідно Статуту. Проводиться енергоаудит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Голова ОСББ отримує технічні умови (з дотриманням ДБН), оформляє декларацію про початок робіт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Рада правління обирає підрядну організацію, яка буде проводити роботи, отримує проект і комерційну пропозицію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подає документи до банківської установи щодо намірів відкриття кредитної лінії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івська установа перевіряє документи ОСББ на отримання кредиту, виносить позитивне рішення на кредитному комітеті про його надання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відкриває розрахунковий рахунок у банку з назвою “ремонтний фонд” і надає банку рахунок від підрядної організації з платіжним дорученням на купівлю матеріалів, обладнання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 перераховує кошти ОСББ, а ОСББ - підрядній організації, яка закуповує матеріали, обладнання (які мають відповідати ДБН)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342e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808200" y="11124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Дорожня карта продовження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90600" y="581040"/>
            <a:ext cx="8461440" cy="9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Відповідно до угоди з підрядною організацією проводяться монтажні роботи (з дотриманням вимог ДБН)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Акт виконаних робіт підписується технічним наглядом (проводиться паралельно авторському), авторським наглядом (підприємством, що здійснює роботи ), головою правління ОСББ і подається разом із платіжним дорученням про кінцевий розрахунок з підрядною організацією до банку.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відкриває розрахунковий рахунок у банку з назвою “ремонтний фонд” і надає банку рахунок від підрядної організації з платіжним дорученням на купівлю матеріалів, обладнання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 оформляє графік погашення кредиту (тіла та відсотків) для ОСББ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подає заяву до органу місцевого самоврядування на участь у місцевій програмі відшкодування відсоткових ставок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рганом місцевого самоврядування приймається рішення щодо включення ОСББ в місцеву програму, про що повідомляється банк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подає акт виконаних робіт до банківської установи для підтвердження права на отримання відшкодування 40% суми кредиту за державною програмою. У разі наявності серед співвласників субсидіантів, в банк надаються також відповідні документи для підтвердження права збільшення відшкодування до 70%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4"/>
          <p:cNvSpPr/>
          <p:nvPr/>
        </p:nvSpPr>
        <p:spPr>
          <a:xfrm>
            <a:off x="808200" y="31608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libri"/>
              </a:rPr>
              <a:t>Дорожня карта продовження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95280" y="907920"/>
            <a:ext cx="8461440" cy="89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відкриває розрахунковий рахунок у банку з назвою “ремонтний фонд” і надає банку рахунок від підрядної організації з платіжним дорученням на купівлю матеріалів, обладнання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 оформляє графік погашення кредиту (тіла та відсотків) для ОСББ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 перевіряє надані документи та подає ОСББ до Держенергоефективності в складі реєстру ОСББ/ЖБК, які мають право на відшкодування частини тіла кредиту за підсумками місяця 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Держенергоефективності відповідно до реєстрів забезпечує перерахування банку загальну суму відшкодування для усіх ОСББ/ЖБК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Банк зараховує належну суму відшкодування на рахунок ОСББ та змінює графік погашення кредиту.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рганом місцевого самоврядування забезпечується перерахування до банку коштів в рахунок погашення платежів по відсотках за кредитом ОСББ на основі даних щомісячних реєстрів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42e2c"/>
                </a:solidFill>
                <a:latin typeface="Calibri"/>
              </a:rPr>
              <a:t>ОСББ здійснює та завершує виплату кредиту відповідно до графіку.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  <a:p>
            <a:pPr marL="457200" indent="-457200">
              <a:spcBef>
                <a:spcPts val="1375"/>
              </a:spcBef>
              <a:buClr>
                <a:srgbClr val="342e2c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Объект 4"/>
          <p:cNvSpPr/>
          <p:nvPr/>
        </p:nvSpPr>
        <p:spPr>
          <a:xfrm>
            <a:off x="822240" y="1727280"/>
            <a:ext cx="7775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alibri"/>
                <a:ea typeface="MS PGothic"/>
              </a:rPr>
              <a:t>Дякую за увагу !</a:t>
            </a:r>
            <a:br>
              <a:rPr sz="3200"/>
            </a:br>
            <a:br>
              <a:rPr sz="3600"/>
            </a:br>
            <a:r>
              <a:rPr b="0" lang="uk-UA" sz="2400" spc="-1" strike="noStrike">
                <a:solidFill>
                  <a:srgbClr val="6e6452"/>
                </a:solidFill>
                <a:latin typeface="Calibri"/>
                <a:ea typeface="MS PGothic"/>
              </a:rPr>
              <a:t>Марусич Дмитро Володимирович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6e6452"/>
                </a:solidFill>
                <a:latin typeface="Calibri"/>
                <a:ea typeface="MS PGothic"/>
              </a:rPr>
              <a:t>т. </a:t>
            </a:r>
            <a:r>
              <a:rPr b="0" lang="en-US" sz="2400" spc="-1" strike="noStrike">
                <a:solidFill>
                  <a:srgbClr val="6e6452"/>
                </a:solidFill>
                <a:latin typeface="Calibri"/>
                <a:ea typeface="MS PGothic"/>
              </a:rPr>
              <a:t>+38 (</a:t>
            </a:r>
            <a:r>
              <a:rPr b="0" lang="uk-UA" sz="2400" spc="-1" strike="noStrike">
                <a:solidFill>
                  <a:srgbClr val="6e6452"/>
                </a:solidFill>
                <a:latin typeface="Calibri"/>
                <a:ea typeface="MS PGothic"/>
              </a:rPr>
              <a:t>097</a:t>
            </a:r>
            <a:r>
              <a:rPr b="0" lang="en-US" sz="2400" spc="-1" strike="noStrike">
                <a:solidFill>
                  <a:srgbClr val="6e6452"/>
                </a:solidFill>
                <a:latin typeface="Calibri"/>
                <a:ea typeface="MS PGothic"/>
              </a:rPr>
              <a:t>)</a:t>
            </a:r>
            <a:r>
              <a:rPr b="0" lang="uk-UA" sz="2400" spc="-1" strike="noStrike">
                <a:solidFill>
                  <a:srgbClr val="6e6452"/>
                </a:solidFill>
                <a:latin typeface="Calibri"/>
                <a:ea typeface="MS PGothic"/>
              </a:rPr>
              <a:t> 127 09 04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6e6452"/>
                </a:solidFill>
                <a:latin typeface="Calibri"/>
                <a:ea typeface="MS PGothic"/>
              </a:rPr>
              <a:t>e-mail</a:t>
            </a:r>
            <a:r>
              <a:rPr b="0" lang="uk-UA" sz="2400" spc="-1" strike="noStrike">
                <a:solidFill>
                  <a:srgbClr val="6e6452"/>
                </a:solidFill>
                <a:latin typeface="Calibri"/>
                <a:ea typeface="MS PGothic"/>
              </a:rPr>
              <a:t>:</a:t>
            </a:r>
            <a:r>
              <a:rPr b="0" lang="en-US" sz="2400" spc="-1" strike="noStrike">
                <a:solidFill>
                  <a:srgbClr val="6e6452"/>
                </a:solidFill>
                <a:latin typeface="Calibri"/>
                <a:ea typeface="MS PGothic"/>
              </a:rPr>
              <a:t> </a:t>
            </a:r>
            <a:r>
              <a:rPr b="0" lang="ru-RU" sz="2400" spc="-1" strike="noStrike">
                <a:solidFill>
                  <a:srgbClr val="6e6452"/>
                </a:solidFill>
                <a:latin typeface="Calibri"/>
                <a:ea typeface="MS PGothic"/>
              </a:rPr>
              <a:t>marusich_dmitriy@ukr.net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01600" y="1412640"/>
            <a:ext cx="89280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Без будівель ми не можемо існувати як суспільство. Ми не можемо спати, працювати та створювати родину. Ми не можемо вижити без будівель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Будівлі становлять більшу фінансову цінність, ніж інші інфраструктури разом узяті (транспорт, виробництво тощо)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Останні значні інвестиції в доступне житло та громадські будівлі в Україні здіснювалися за часів комуністичного режиму 25-70 років тому. 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262e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e35"/>
                </a:solidFill>
                <a:latin typeface="Calibri"/>
              </a:rPr>
              <a:t>Сучасний житловий фонд споживає близько 40% усіх енергетичних ресурсів України та повертає тільки нагріте повітря, забруднює довкілля та створює дефіцит торгового балансу. Відсутній будь-який корисний чи продаваний результат – лише відходи з року в рік.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262e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763560" y="260280"/>
            <a:ext cx="74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Сьогодні будівлі є найбільшою інфраструктурою країни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D89-86B2-487C-8567-4513B3FAF983}" type="slidenum">
              <a:rPr b="0" lang="de-DE" sz="1200" spc="-1" strike="noStrike">
                <a:solidFill>
                  <a:srgbClr val="8d9cad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46" name="Textfeld 33"/>
          <p:cNvSpPr/>
          <p:nvPr/>
        </p:nvSpPr>
        <p:spPr>
          <a:xfrm>
            <a:off x="538200" y="4680"/>
            <a:ext cx="75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Можливість впливу на витрати зменшується з просуванням життєвого циклу будівлі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cxnSp>
        <p:nvCxnSpPr>
          <p:cNvPr id="147" name="Gerade Verbindung mit Pfeil 4"/>
          <p:cNvCxnSpPr/>
          <p:nvPr/>
        </p:nvCxnSpPr>
        <p:spPr>
          <a:xfrm>
            <a:off x="820440" y="5536800"/>
            <a:ext cx="7808040" cy="1080"/>
          </a:xfrm>
          <a:prstGeom prst="straightConnector1">
            <a:avLst/>
          </a:prstGeom>
          <a:ln w="158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48" name="Gerade Verbindung mit Pfeil 5"/>
          <p:cNvCxnSpPr/>
          <p:nvPr/>
        </p:nvCxnSpPr>
        <p:spPr>
          <a:xfrm flipV="1">
            <a:off x="806040" y="1726560"/>
            <a:ext cx="1080" cy="3810600"/>
          </a:xfrm>
          <a:prstGeom prst="straightConnector1">
            <a:avLst/>
          </a:prstGeom>
          <a:ln w="158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49" name="Freihandform 6"/>
          <p:cNvSpPr/>
          <p:nvPr/>
        </p:nvSpPr>
        <p:spPr>
          <a:xfrm>
            <a:off x="906480" y="1930320"/>
            <a:ext cx="7245360" cy="3346560"/>
          </a:xfrm>
          <a:custGeom>
            <a:avLst/>
            <a:gdLst/>
            <a:ahLst/>
            <a:rect l="l" t="t" r="r" b="b"/>
            <a:pathLst>
              <a:path w="7244487" h="3347754">
                <a:moveTo>
                  <a:pt x="0" y="0"/>
                </a:moveTo>
                <a:cubicBezTo>
                  <a:pt x="126273" y="935564"/>
                  <a:pt x="252547" y="1871129"/>
                  <a:pt x="981325" y="2381000"/>
                </a:cubicBezTo>
                <a:cubicBezTo>
                  <a:pt x="1710103" y="2890871"/>
                  <a:pt x="3328808" y="2900491"/>
                  <a:pt x="4372668" y="3059224"/>
                </a:cubicBezTo>
                <a:cubicBezTo>
                  <a:pt x="5416528" y="3217957"/>
                  <a:pt x="7119416" y="3400742"/>
                  <a:pt x="7244487" y="3333400"/>
                </a:cubicBezTo>
              </a:path>
            </a:pathLst>
          </a:custGeom>
          <a:noFill/>
          <a:ln w="15840">
            <a:solidFill>
              <a:srgbClr val="7f518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0" name="Textfeld 23"/>
          <p:cNvSpPr/>
          <p:nvPr/>
        </p:nvSpPr>
        <p:spPr>
          <a:xfrm>
            <a:off x="829800" y="573732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Планування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1" name="Textfeld 24"/>
          <p:cNvSpPr/>
          <p:nvPr/>
        </p:nvSpPr>
        <p:spPr>
          <a:xfrm>
            <a:off x="2274480" y="57373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Будівництво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2" name="Textfeld 25"/>
          <p:cNvSpPr/>
          <p:nvPr/>
        </p:nvSpPr>
        <p:spPr>
          <a:xfrm>
            <a:off x="4392720" y="575784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Використання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3" name="Textfeld 26"/>
          <p:cNvSpPr/>
          <p:nvPr/>
        </p:nvSpPr>
        <p:spPr>
          <a:xfrm>
            <a:off x="7423560" y="57373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Знесення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4" name="Textfeld 27"/>
          <p:cNvSpPr/>
          <p:nvPr/>
        </p:nvSpPr>
        <p:spPr>
          <a:xfrm rot="16200000">
            <a:off x="80280" y="243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висока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5" name="Textfeld 28"/>
          <p:cNvSpPr/>
          <p:nvPr/>
        </p:nvSpPr>
        <p:spPr>
          <a:xfrm rot="16200000">
            <a:off x="104040" y="4928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d5b6b"/>
                </a:solidFill>
                <a:latin typeface="Calibri"/>
              </a:rPr>
              <a:t>низька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6" name="Textfeld 29"/>
          <p:cNvSpPr/>
          <p:nvPr/>
        </p:nvSpPr>
        <p:spPr>
          <a:xfrm rot="19224000">
            <a:off x="5708520" y="2728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5b6b"/>
                </a:solidFill>
                <a:latin typeface="Calibri"/>
              </a:rPr>
              <a:t>витрати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7" name="Textfeld 30"/>
          <p:cNvSpPr/>
          <p:nvPr/>
        </p:nvSpPr>
        <p:spPr>
          <a:xfrm rot="534000">
            <a:off x="5415840" y="47340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5b6b"/>
                </a:solidFill>
                <a:latin typeface="Calibri"/>
              </a:rPr>
              <a:t>Можливість впливу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58" name="Freihandform 15"/>
          <p:cNvSpPr/>
          <p:nvPr/>
        </p:nvSpPr>
        <p:spPr>
          <a:xfrm>
            <a:off x="806400" y="1911240"/>
            <a:ext cx="7158240" cy="3583080"/>
          </a:xfrm>
          <a:custGeom>
            <a:avLst/>
            <a:gdLst/>
            <a:ahLst/>
            <a:rect l="l" t="t" r="r" b="b"/>
            <a:pathLst>
              <a:path w="7157899" h="3583055">
                <a:moveTo>
                  <a:pt x="0" y="3583055"/>
                </a:moveTo>
                <a:cubicBezTo>
                  <a:pt x="438950" y="3574637"/>
                  <a:pt x="877901" y="3566220"/>
                  <a:pt x="1168931" y="3467613"/>
                </a:cubicBezTo>
                <a:cubicBezTo>
                  <a:pt x="1459961" y="3369006"/>
                  <a:pt x="1395021" y="3260779"/>
                  <a:pt x="1746181" y="2991413"/>
                </a:cubicBezTo>
                <a:cubicBezTo>
                  <a:pt x="2097341" y="2722047"/>
                  <a:pt x="2737126" y="2108759"/>
                  <a:pt x="3275893" y="1851419"/>
                </a:cubicBezTo>
                <a:cubicBezTo>
                  <a:pt x="3814660" y="1594079"/>
                  <a:pt x="4478498" y="1668635"/>
                  <a:pt x="4978781" y="1447371"/>
                </a:cubicBezTo>
                <a:cubicBezTo>
                  <a:pt x="5479064" y="1226107"/>
                  <a:pt x="5914407" y="764337"/>
                  <a:pt x="6277593" y="523832"/>
                </a:cubicBezTo>
                <a:cubicBezTo>
                  <a:pt x="6640779" y="283327"/>
                  <a:pt x="6979913" y="-41355"/>
                  <a:pt x="7157899" y="4341"/>
                </a:cubicBezTo>
              </a:path>
            </a:pathLst>
          </a:custGeom>
          <a:noFill/>
          <a:ln w="1584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хема 3" descr=""/>
          <p:cNvPicPr/>
          <p:nvPr/>
        </p:nvPicPr>
        <p:blipFill>
          <a:blip r:embed="rId1"/>
          <a:stretch/>
        </p:blipFill>
        <p:spPr>
          <a:xfrm>
            <a:off x="1450800" y="1378080"/>
            <a:ext cx="6797880" cy="46447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8"/>
          <p:cNvSpPr/>
          <p:nvPr/>
        </p:nvSpPr>
        <p:spPr>
          <a:xfrm>
            <a:off x="763560" y="260280"/>
            <a:ext cx="74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Реформування житлово – комунального господарства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Объект 5" descr=""/>
          <p:cNvPicPr/>
          <p:nvPr/>
        </p:nvPicPr>
        <p:blipFill>
          <a:blip r:embed="rId1"/>
          <a:stretch/>
        </p:blipFill>
        <p:spPr>
          <a:xfrm>
            <a:off x="274680" y="901800"/>
            <a:ext cx="8924760" cy="50655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Сучасний стан будівель в Україні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3"/>
          <p:cNvSpPr/>
          <p:nvPr/>
        </p:nvSpPr>
        <p:spPr>
          <a:xfrm>
            <a:off x="1258920" y="6553080"/>
            <a:ext cx="716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75d59"/>
                </a:solidFill>
                <a:latin typeface="Arial"/>
                <a:ea typeface="MS PGothic"/>
              </a:rPr>
              <a:t>XXX</a:t>
            </a:r>
            <a:endParaRPr b="0" lang="en-US" sz="14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65" name="Дата 4"/>
          <p:cNvSpPr/>
          <p:nvPr/>
        </p:nvSpPr>
        <p:spPr>
          <a:xfrm rot="16200000">
            <a:off x="-119844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75d59"/>
                </a:solidFill>
                <a:latin typeface="Arial"/>
                <a:ea typeface="MS PGothic"/>
              </a:rPr>
              <a:t>23.01.2014</a:t>
            </a:r>
            <a:endParaRPr b="0" lang="en-US" sz="1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8"/>
          <p:cNvSpPr/>
          <p:nvPr/>
        </p:nvSpPr>
        <p:spPr>
          <a:xfrm>
            <a:off x="971640" y="297000"/>
            <a:ext cx="74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Яка мета?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67" name="Схема 2" descr=""/>
          <p:cNvPicPr/>
          <p:nvPr/>
        </p:nvPicPr>
        <p:blipFill>
          <a:blip r:embed="rId1"/>
          <a:stretch/>
        </p:blipFill>
        <p:spPr>
          <a:xfrm>
            <a:off x="603360" y="944640"/>
            <a:ext cx="8223120" cy="54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4"/>
          <p:cNvSpPr/>
          <p:nvPr/>
        </p:nvSpPr>
        <p:spPr>
          <a:xfrm>
            <a:off x="763560" y="26028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Що відбувається в містах: м. Рівне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69" name="Схема 7" descr=""/>
          <p:cNvPicPr/>
          <p:nvPr/>
        </p:nvPicPr>
        <p:blipFill>
          <a:blip r:embed="rId1"/>
          <a:stretch/>
        </p:blipFill>
        <p:spPr>
          <a:xfrm>
            <a:off x="249120" y="950760"/>
            <a:ext cx="8675640" cy="5913720"/>
          </a:xfrm>
          <a:prstGeom prst="rect">
            <a:avLst/>
          </a:prstGeom>
          <a:ln w="0">
            <a:noFill/>
          </a:ln>
        </p:spPr>
      </p:pic>
      <p:grpSp>
        <p:nvGrpSpPr>
          <p:cNvPr id="170" name="Группа 8"/>
          <p:cNvGrpSpPr/>
          <p:nvPr/>
        </p:nvGrpSpPr>
        <p:grpSpPr>
          <a:xfrm>
            <a:off x="539640" y="5661000"/>
            <a:ext cx="8280360" cy="957240"/>
            <a:chOff x="539640" y="5661000"/>
            <a:chExt cx="8280360" cy="957240"/>
          </a:xfrm>
        </p:grpSpPr>
        <p:sp>
          <p:nvSpPr>
            <p:cNvPr id="171" name="Прямоугольник 9"/>
            <p:cNvSpPr/>
            <p:nvPr/>
          </p:nvSpPr>
          <p:spPr>
            <a:xfrm>
              <a:off x="539640" y="5661000"/>
              <a:ext cx="8280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  <p:sp>
          <p:nvSpPr>
            <p:cNvPr id="172" name="Прямоугольник 10"/>
            <p:cNvSpPr/>
            <p:nvPr/>
          </p:nvSpPr>
          <p:spPr>
            <a:xfrm>
              <a:off x="539640" y="5661000"/>
              <a:ext cx="8280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337"/>
                </a:spcAft>
                <a:buClr>
                  <a:srgbClr val="4d5b6b"/>
                </a:buClr>
                <a:buFont typeface="Calibri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0" lang="uk-UA" sz="1500" spc="-1" strike="noStrike">
                  <a:solidFill>
                    <a:srgbClr val="4d5b6b"/>
                  </a:solidFill>
                  <a:latin typeface="Calibri"/>
                </a:rPr>
                <a:t> </a:t>
              </a:r>
              <a:r>
                <a:rPr b="0" lang="uk-UA" sz="1800" spc="-1" strike="noStrike">
                  <a:solidFill>
                    <a:srgbClr val="342e2c"/>
                  </a:solidFill>
                  <a:latin typeface="Calibri"/>
                </a:rPr>
                <a:t>План дій сталого енергетичного розвитку міста Рівне до 2020 р.</a:t>
              </a: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0:12:09Z</dcterms:created>
  <dc:creator>User</dc:creator>
  <dc:description/>
  <dc:language>en-US</dc:language>
  <cp:lastModifiedBy>_kudzu_</cp:lastModifiedBy>
  <cp:lastPrinted>2016-02-16T12:53:32Z</cp:lastPrinted>
  <dcterms:modified xsi:type="dcterms:W3CDTF">2016-04-02T08:47:31Z</dcterms:modified>
  <cp:revision>119</cp:revision>
  <dc:subject/>
  <dc:title>Слайд 1</dc:title>
</cp:coreProperties>
</file>